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3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7.wmf" ContentType="image/x-wmf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6A36-5030-4105-BEF2-6876FB07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EBE0-3671-4FD1-A6D6-70F7290E8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FFA1-32C0-410B-8DAF-5AAC1D11B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CEC1-1BD3-49A0-B7A0-2771D51F9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8364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DC84-AED6-4E5F-901B-F1322CDE4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B46C-20A8-485E-A6F7-DB6C77581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00E4-8A37-4E3F-83B4-51BA7C334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DF97-6812-400E-88A4-CF3462942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8364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8A3A-C0CC-4514-9377-7E248165C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7209-19AB-491C-84BF-E10DCD85E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3948-AAD9-4C36-9BAD-292CA6CBF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6713-9D7A-4A3E-B8A3-60C164F2C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5e574e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AC8-B38A-4AC1-A7CA-E9C5985B5778}" type="slidenum">
              <a:rPr b="0" lang="zh-TW" sz="1200" spc="-1" strike="noStrike">
                <a:solidFill>
                  <a:srgbClr val="5e574e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1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133440" cy="1724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581280"/>
            <a:ext cx="990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685800" cy="3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EF40-3F8C-4E06-B3CD-0977F3E81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133440" cy="1724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599000" cy="2743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3581280"/>
            <a:ext cx="990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685800" cy="3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1F90-7691-4CB3-B5AC-90A407FB6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248280" cy="14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A502-0020-4CBF-8144-6E3746C99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248280" cy="146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4754520" cy="23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E5BA-3BC8-4FF9-86AA-E7ECEBF5E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Light Swi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952880" cy="2467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18960" y="182844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440" y="312408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5160" y="3276360"/>
            <a:ext cx="75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2590920"/>
                <a:ext cx="658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3ABD-8517-4434-A053-B16079306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Light Swi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46640" y="1886040"/>
            <a:ext cx="4108320" cy="2155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witch may be turned on whenever at least 2 time units has elapsed since last “turn off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952880" cy="246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18960" y="182844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440" y="312408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5160" y="3276360"/>
            <a:ext cx="75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62320" y="2590920"/>
                <a:ext cx="658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5961-1948-45D3-97C9-85E311E8D2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Light Swi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46640" y="1885680"/>
            <a:ext cx="4108320" cy="375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witch may be turned on whenever at least 2 time units has elapsed since last “turn off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ight automatically switches off after 9 time un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952880" cy="2467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90360" y="274284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5840" y="403848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6560" y="4190760"/>
            <a:ext cx="75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3809880"/>
            <a:ext cx="4495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209680" y="3581280"/>
                <a:ext cx="582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1A00-157C-4796-B8C9-86AB61CF1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428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42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clock valuatio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stat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574e"/>
                </a:solidFill>
                <a:latin typeface="Tahoma"/>
                <a:ea typeface="新細明體"/>
              </a:rPr>
              <a:t>Semantics of timed automata is a 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labeled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  <a:ea typeface="新細明體"/>
              </a:rPr>
              <a:t> 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transition system</a:t>
            </a:r>
            <a:br>
              <a:rPr sz="2800"/>
            </a:br>
            <a:r>
              <a:rPr b="0" lang="en-US" sz="2800" spc="-1" strike="noStrike">
                <a:solidFill>
                  <a:srgbClr val="5e574e"/>
                </a:solidFill>
                <a:latin typeface="Tahoma"/>
                <a:ea typeface="新細明體"/>
              </a:rPr>
              <a:t>where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action transition</a:t>
            </a:r>
            <a:r>
              <a:rPr b="0" lang="en-US" sz="2800" spc="-1" strike="noStrike">
                <a:solidFill>
                  <a:srgbClr val="5e574e"/>
                </a:solidFill>
                <a:latin typeface="Tahoma"/>
                <a:ea typeface="新細明體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5e574e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ahoma"/>
                <a:ea typeface="新細明體"/>
              </a:rPr>
              <a:t>delay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5051160" cy="466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5184720" cy="473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191120" y="1523880"/>
            <a:ext cx="3028680" cy="462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343400" y="3048120"/>
            <a:ext cx="1038240" cy="473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343400" y="5562720"/>
            <a:ext cx="5375160" cy="1057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772400" y="4343400"/>
            <a:ext cx="3049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4267080"/>
            <a:ext cx="38088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0" y="4267080"/>
            <a:ext cx="38088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6960" y="4114440"/>
            <a:ext cx="90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g  a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5000" y="4267080"/>
            <a:ext cx="26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8880" y="4267080"/>
            <a:ext cx="36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343400" y="4267080"/>
                <a:ext cx="53341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f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B078-E3BE-4C98-B43B-C7D807A7E3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Semantics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953240" cy="2467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6713640" cy="2021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819160" y="152388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4640" y="281916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5360" y="2971440"/>
            <a:ext cx="75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114800" y="2330280"/>
                <a:ext cx="582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E449-9BA1-4534-AC04-000CE0C3DB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新細明體"/>
              </a:rPr>
              <a:t>Networks of Timed Automat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新細明體"/>
              </a:rPr>
              <a:t> + Integer Variables + arrays …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1058760" y="2084400"/>
            <a:ext cx="468360" cy="522360"/>
          </a:xfrm>
          <a:prstGeom prst="ellipse">
            <a:avLst/>
          </a:prstGeom>
          <a:solidFill>
            <a:srgbClr val="e1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6400" y="3786120"/>
            <a:ext cx="468360" cy="522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285920" y="2611440"/>
            <a:ext cx="7920" cy="11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66960" y="2087640"/>
            <a:ext cx="133200" cy="10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457280" y="2065320"/>
            <a:ext cx="171360" cy="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71520" y="19051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14400" y="4233960"/>
            <a:ext cx="216000" cy="1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3840" y="4317840"/>
            <a:ext cx="38160" cy="17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7040" y="4265640"/>
            <a:ext cx="141480" cy="21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4181400"/>
            <a:ext cx="2160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74240" y="220968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0560" y="3886200"/>
            <a:ext cx="33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02480" y="3038400"/>
            <a:ext cx="36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45320" y="2590920"/>
            <a:ext cx="52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x&gt;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i==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6040" y="3352680"/>
            <a:ext cx="57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x :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i:=i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35280" y="2084400"/>
            <a:ext cx="468360" cy="522360"/>
          </a:xfrm>
          <a:prstGeom prst="ellipse">
            <a:avLst/>
          </a:prstGeom>
          <a:solidFill>
            <a:srgbClr val="e1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52560" y="3786120"/>
            <a:ext cx="468360" cy="522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962440" y="2611440"/>
            <a:ext cx="7920" cy="11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3120" y="2087640"/>
            <a:ext cx="133560" cy="10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33800" y="2065320"/>
            <a:ext cx="171360" cy="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8040" y="19051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590560" y="4233960"/>
            <a:ext cx="215640" cy="1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0360" y="4317840"/>
            <a:ext cx="37800" cy="17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03560" y="4265640"/>
            <a:ext cx="141120" cy="21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4181400"/>
            <a:ext cx="2160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54360" y="2133720"/>
            <a:ext cx="44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54360" y="3886200"/>
            <a:ext cx="44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2960" y="3038400"/>
            <a:ext cx="4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20400" y="2666880"/>
            <a:ext cx="52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y&lt;=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83400" y="2084400"/>
            <a:ext cx="468000" cy="522360"/>
          </a:xfrm>
          <a:prstGeom prst="ellipse">
            <a:avLst/>
          </a:prstGeom>
          <a:solidFill>
            <a:srgbClr val="e1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00680" y="3786120"/>
            <a:ext cx="468360" cy="522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010200" y="2611440"/>
            <a:ext cx="7920" cy="11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91240" y="2087640"/>
            <a:ext cx="133200" cy="10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181200" y="2065320"/>
            <a:ext cx="171720" cy="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96160" y="19051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638680" y="4233960"/>
            <a:ext cx="216000" cy="1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8120" y="4317840"/>
            <a:ext cx="38160" cy="17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51680" y="4265640"/>
            <a:ext cx="141120" cy="21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4181400"/>
            <a:ext cx="21564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4520" y="20750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3805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26040" y="303840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6560" y="27050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ff6600"/>
                </a:solidFill>
                <a:latin typeface="Tahoma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63840" y="347832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ff6600"/>
                </a:solidFill>
                <a:latin typeface="Tahoma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19680" y="266688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新細明體"/>
              </a:rPr>
              <a:t>…………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99760" y="2666880"/>
            <a:ext cx="26755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新細明體"/>
              </a:rPr>
              <a:t>Two-way synchro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新細明體"/>
              </a:rPr>
              <a:t>on </a:t>
            </a:r>
            <a:r>
              <a:rPr b="0" i="1" lang="en-US" sz="1600" spc="-1" strike="noStrike">
                <a:solidFill>
                  <a:srgbClr val="000099"/>
                </a:solidFill>
                <a:latin typeface="Tahoma"/>
                <a:ea typeface="新細明體"/>
              </a:rPr>
              <a:t>complementary 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新細明體"/>
              </a:rPr>
              <a:t>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  <a:ea typeface="新細明體"/>
              </a:rPr>
              <a:t>Closed System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05800" y="4932360"/>
            <a:ext cx="6675480" cy="155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l1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m1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………, x=2, y=3.5, i=3,…..)              (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l2,m2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……..,x=0,  y=3.5, i=7,…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l1,m1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………,x=2.2, y=3.7, I=3,…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5410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5410080"/>
            <a:ext cx="1600200" cy="685800"/>
          </a:xfrm>
          <a:custGeom>
            <a:avLst/>
            <a:gdLst/>
            <a:ahLst/>
            <a:rect l="l" t="t" r="r" b="b"/>
            <a:pathLst>
              <a:path w="800" h="336">
                <a:moveTo>
                  <a:pt x="32" y="0"/>
                </a:moveTo>
                <a:cubicBezTo>
                  <a:pt x="24" y="0"/>
                  <a:pt x="16" y="0"/>
                  <a:pt x="32" y="48"/>
                </a:cubicBezTo>
                <a:cubicBezTo>
                  <a:pt x="48" y="96"/>
                  <a:pt x="0" y="240"/>
                  <a:pt x="128" y="288"/>
                </a:cubicBezTo>
                <a:cubicBezTo>
                  <a:pt x="256" y="336"/>
                  <a:pt x="680" y="328"/>
                  <a:pt x="800" y="3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960" y="5715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61200" y="5105520"/>
            <a:ext cx="4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43200" y="5867280"/>
            <a:ext cx="457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5791320"/>
            <a:ext cx="1522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5000" y="4724280"/>
            <a:ext cx="2062800" cy="33732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Example tran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06360" y="6324480"/>
            <a:ext cx="2338560" cy="33732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If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  <a:ea typeface="新細明體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a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URGEN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9703-1E55-49A1-B2D5-43EE12FD0C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2971800"/>
            <a:ext cx="9144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971800"/>
            <a:ext cx="914400" cy="8380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971800"/>
            <a:ext cx="914400" cy="838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B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9" idx="6"/>
            <a:endCxn id="80" idx="2"/>
          </p:cNvCxnSpPr>
          <p:nvPr/>
        </p:nvCxnSpPr>
        <p:spPr>
          <a:xfrm>
            <a:off x="2895120" y="3390480"/>
            <a:ext cx="1677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6"/>
            <a:endCxn id="81" idx="2"/>
          </p:cNvCxnSpPr>
          <p:nvPr/>
        </p:nvCxnSpPr>
        <p:spPr>
          <a:xfrm>
            <a:off x="5486040" y="3390480"/>
            <a:ext cx="152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4"/>
            <a:endCxn id="79" idx="4"/>
          </p:cNvCxnSpPr>
          <p:nvPr/>
        </p:nvCxnSpPr>
        <p:spPr>
          <a:xfrm rot="5400000">
            <a:off x="3732120" y="2514960"/>
            <a:ext cx="2520" cy="259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1" idx="0"/>
            <a:endCxn id="79" idx="0"/>
          </p:cNvCxnSpPr>
          <p:nvPr/>
        </p:nvCxnSpPr>
        <p:spPr>
          <a:xfrm rot="5400000">
            <a:off x="4951440" y="457920"/>
            <a:ext cx="2160" cy="5029920"/>
          </a:xfrm>
          <a:prstGeom prst="curvedConnector5">
            <a:avLst>
              <a:gd name="adj1" fmla="val -14400000"/>
              <a:gd name="adj2" fmla="val 49996"/>
              <a:gd name="adj3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2878920" y="30542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71640" y="30542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0920" y="2635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4440" y="39625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5960" y="46814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ANT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if press is issued twic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quickly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n the </a:t>
            </a: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ligh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ll get </a:t>
            </a: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bright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; otherwise the ligh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ned </a:t>
            </a: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imed Automata</a:t>
            </a:r>
            <a:br>
              <a:rPr sz="3200"/>
            </a:b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Intelligent Light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BA0F-F0F2-4DDE-83A1-327A2116A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95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d Automat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52200" y="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im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1360" y="289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22520" y="3733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2084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94000" y="2286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8472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66960" y="838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63240" y="1752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93680" y="914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8280" y="914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8152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33960" y="1752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98080" y="13716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5800" y="2895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7260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85920" y="2057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33640" y="1295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33400" y="1447920"/>
            <a:ext cx="165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06560" y="16765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1568160" y="1676520"/>
            <a:ext cx="825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035680" y="838080"/>
            <a:ext cx="3972960" cy="2075400"/>
            <a:chOff x="5035680" y="838080"/>
            <a:chExt cx="3972960" cy="2075400"/>
          </a:xfrm>
        </p:grpSpPr>
        <p:grpSp>
          <p:nvGrpSpPr>
            <p:cNvPr id="335" name=""/>
            <p:cNvGrpSpPr/>
            <p:nvPr/>
          </p:nvGrpSpPr>
          <p:grpSpPr>
            <a:xfrm>
              <a:off x="5072040" y="838080"/>
              <a:ext cx="3936600" cy="2075400"/>
              <a:chOff x="5072040" y="838080"/>
              <a:chExt cx="3936600" cy="2075400"/>
            </a:xfrm>
          </p:grpSpPr>
          <p:sp>
            <p:nvSpPr>
              <p:cNvPr id="336" name=""/>
              <p:cNvSpPr/>
              <p:nvPr/>
            </p:nvSpPr>
            <p:spPr>
              <a:xfrm>
                <a:off x="596268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4784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64784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6268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86560" y="838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l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12480" y="2514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d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30480" y="838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582960" y="205740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86560" y="121932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05400" y="1066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72040" y="2209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0160" y="167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y &g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86560" y="243828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83880" y="1295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0056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383520" y="2438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131160" y="1523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035680" y="838080"/>
              <a:ext cx="396144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54240" y="3048120"/>
            <a:ext cx="3962160" cy="1998720"/>
            <a:chOff x="3054240" y="3048120"/>
            <a:chExt cx="3962160" cy="1998720"/>
          </a:xfrm>
        </p:grpSpPr>
        <p:sp>
          <p:nvSpPr>
            <p:cNvPr id="355" name=""/>
            <p:cNvSpPr/>
            <p:nvPr/>
          </p:nvSpPr>
          <p:spPr>
            <a:xfrm>
              <a:off x="5894640" y="3809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7960" y="4267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43040" y="304812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61680" y="3352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89880" y="4419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625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131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31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32520" y="3886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3440" y="342900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3440" y="46479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75080" y="3504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08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374720" y="4647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274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4240" y="3048120"/>
              <a:ext cx="3962160" cy="1981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073160" y="838080"/>
            <a:ext cx="37148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00240" y="1143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E6AC-FB99-48E8-91BC-BCABEB72AB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95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d Automat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52200" y="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im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1360" y="289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22520" y="3733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2084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94000" y="2286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8472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63240" y="1752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93680" y="914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8280" y="914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8152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33960" y="1752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98080" y="13716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5800" y="2895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260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5920" y="2057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3640" y="1295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33400" y="1447920"/>
            <a:ext cx="165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806560" y="16765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568160" y="1676520"/>
            <a:ext cx="825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035680" y="838080"/>
            <a:ext cx="3972960" cy="2075400"/>
            <a:chOff x="5035680" y="838080"/>
            <a:chExt cx="3972960" cy="2075400"/>
          </a:xfrm>
        </p:grpSpPr>
        <p:grpSp>
          <p:nvGrpSpPr>
            <p:cNvPr id="395" name=""/>
            <p:cNvGrpSpPr/>
            <p:nvPr/>
          </p:nvGrpSpPr>
          <p:grpSpPr>
            <a:xfrm>
              <a:off x="5072040" y="838080"/>
              <a:ext cx="3936600" cy="2075400"/>
              <a:chOff x="5072040" y="838080"/>
              <a:chExt cx="3936600" cy="2075400"/>
            </a:xfrm>
          </p:grpSpPr>
          <p:sp>
            <p:nvSpPr>
              <p:cNvPr id="396" name=""/>
              <p:cNvSpPr/>
              <p:nvPr/>
            </p:nvSpPr>
            <p:spPr>
              <a:xfrm>
                <a:off x="596268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4784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4784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6268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86560" y="838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l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12480" y="2514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d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30480" y="838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82960" y="205740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86560" y="121932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05400" y="1066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72040" y="2209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40160" y="167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y &g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586560" y="243828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83880" y="1295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0056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383520" y="2438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131160" y="1523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035680" y="838080"/>
              <a:ext cx="396144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054240" y="3048120"/>
            <a:ext cx="3962160" cy="1998720"/>
            <a:chOff x="3054240" y="3048120"/>
            <a:chExt cx="3962160" cy="1998720"/>
          </a:xfrm>
        </p:grpSpPr>
        <p:sp>
          <p:nvSpPr>
            <p:cNvPr id="415" name=""/>
            <p:cNvSpPr/>
            <p:nvPr/>
          </p:nvSpPr>
          <p:spPr>
            <a:xfrm>
              <a:off x="5894640" y="3809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47960" y="4267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040" y="304812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61680" y="3352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9880" y="4419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25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131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131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5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32520" y="3886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3440" y="342900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3440" y="46479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75080" y="3504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608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374720" y="4647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1274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4240" y="3048120"/>
              <a:ext cx="3962160" cy="1981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073160" y="838080"/>
            <a:ext cx="37148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44960" y="342900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03280" y="137160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26040" y="121932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38400" y="6019920"/>
            <a:ext cx="12380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38400" y="6095880"/>
            <a:ext cx="74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119080" y="6172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66960" y="838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00240" y="1143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FB26-06AF-408A-832C-9A36F6F42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95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d Automat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52200" y="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im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51360" y="289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2520" y="3733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2084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94000" y="2286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8472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63240" y="1752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93680" y="914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8280" y="914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8152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33960" y="1752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98080" y="13716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5800" y="2895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7260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85920" y="2057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33640" y="1295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3400" y="1447920"/>
            <a:ext cx="165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806560" y="16765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1568160" y="1676520"/>
            <a:ext cx="825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035680" y="838080"/>
            <a:ext cx="3972960" cy="2075400"/>
            <a:chOff x="5035680" y="838080"/>
            <a:chExt cx="3972960" cy="2075400"/>
          </a:xfrm>
        </p:grpSpPr>
        <p:grpSp>
          <p:nvGrpSpPr>
            <p:cNvPr id="462" name=""/>
            <p:cNvGrpSpPr/>
            <p:nvPr/>
          </p:nvGrpSpPr>
          <p:grpSpPr>
            <a:xfrm>
              <a:off x="5072040" y="838080"/>
              <a:ext cx="3936600" cy="2075400"/>
              <a:chOff x="5072040" y="838080"/>
              <a:chExt cx="3936600" cy="2075400"/>
            </a:xfrm>
          </p:grpSpPr>
          <p:sp>
            <p:nvSpPr>
              <p:cNvPr id="463" name=""/>
              <p:cNvSpPr/>
              <p:nvPr/>
            </p:nvSpPr>
            <p:spPr>
              <a:xfrm>
                <a:off x="596268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4784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4784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6268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86560" y="838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l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12480" y="2514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d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30480" y="838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82960" y="205740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86560" y="121932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05400" y="1066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72040" y="2209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40160" y="167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y &g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86560" y="243828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83880" y="1295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0056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383520" y="2438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131160" y="1523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5035680" y="838080"/>
              <a:ext cx="396144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054240" y="3048120"/>
            <a:ext cx="3962160" cy="1998720"/>
            <a:chOff x="3054240" y="3048120"/>
            <a:chExt cx="3962160" cy="1998720"/>
          </a:xfrm>
        </p:grpSpPr>
        <p:sp>
          <p:nvSpPr>
            <p:cNvPr id="482" name=""/>
            <p:cNvSpPr/>
            <p:nvPr/>
          </p:nvSpPr>
          <p:spPr>
            <a:xfrm>
              <a:off x="5894640" y="3809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7960" y="4267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43040" y="304812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61680" y="3352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89880" y="4419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31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131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625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32520" y="3886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3440" y="342900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73440" y="46479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75080" y="3504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08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374720" y="4647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1274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54240" y="3048120"/>
              <a:ext cx="3962160" cy="1981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073160" y="838080"/>
            <a:ext cx="37148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95920" y="342900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67160" y="137160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26040" y="121932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38400" y="6019920"/>
            <a:ext cx="12380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47644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66960" y="5257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38400" y="6095880"/>
            <a:ext cx="74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19080" y="6172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58880" y="6019920"/>
            <a:ext cx="1403280" cy="627480"/>
            <a:chOff x="2558880" y="6019920"/>
            <a:chExt cx="1403280" cy="627480"/>
          </a:xfrm>
        </p:grpSpPr>
        <p:sp>
          <p:nvSpPr>
            <p:cNvPr id="509" name=""/>
            <p:cNvSpPr/>
            <p:nvPr/>
          </p:nvSpPr>
          <p:spPr>
            <a:xfrm>
              <a:off x="2558880" y="6019920"/>
              <a:ext cx="140328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3222360" y="5508720"/>
              <a:ext cx="76320" cy="14032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8320 h 1403280"/>
                <a:gd name="textAreaBottom" fmla="*/ 134496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59760" y="62485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866960" y="838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00240" y="1143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BC8D-4490-46F6-AFD4-24C7A72A98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95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d Automat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"/>
          <p:cNvSpPr/>
          <p:nvPr/>
        </p:nvSpPr>
        <p:spPr>
          <a:xfrm>
            <a:off x="52200" y="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im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451360" y="289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2520" y="3733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2084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94000" y="2286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8472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63240" y="1752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93680" y="914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8280" y="914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8152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33960" y="1752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98080" y="13716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5800" y="2895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7260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85920" y="2057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33640" y="1295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33400" y="1447920"/>
            <a:ext cx="165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06560" y="16765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1568160" y="1676520"/>
            <a:ext cx="825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035680" y="838080"/>
            <a:ext cx="3972960" cy="2075400"/>
            <a:chOff x="5035680" y="838080"/>
            <a:chExt cx="3972960" cy="2075400"/>
          </a:xfrm>
        </p:grpSpPr>
        <p:grpSp>
          <p:nvGrpSpPr>
            <p:cNvPr id="535" name=""/>
            <p:cNvGrpSpPr/>
            <p:nvPr/>
          </p:nvGrpSpPr>
          <p:grpSpPr>
            <a:xfrm>
              <a:off x="5072040" y="838080"/>
              <a:ext cx="3936600" cy="2075400"/>
              <a:chOff x="5072040" y="838080"/>
              <a:chExt cx="3936600" cy="2075400"/>
            </a:xfrm>
          </p:grpSpPr>
          <p:sp>
            <p:nvSpPr>
              <p:cNvPr id="536" name=""/>
              <p:cNvSpPr/>
              <p:nvPr/>
            </p:nvSpPr>
            <p:spPr>
              <a:xfrm>
                <a:off x="596268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4784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4784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6268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86560" y="838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l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12480" y="2514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d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30480" y="838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82960" y="205740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6560" y="121932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105400" y="1066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072040" y="2209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40160" y="167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y &g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86560" y="243828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383880" y="1295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0056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383520" y="2438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131160" y="1523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035680" y="838080"/>
              <a:ext cx="396144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54240" y="3048120"/>
            <a:ext cx="3962160" cy="1998720"/>
            <a:chOff x="3054240" y="3048120"/>
            <a:chExt cx="3962160" cy="1998720"/>
          </a:xfrm>
        </p:grpSpPr>
        <p:sp>
          <p:nvSpPr>
            <p:cNvPr id="555" name=""/>
            <p:cNvSpPr/>
            <p:nvPr/>
          </p:nvSpPr>
          <p:spPr>
            <a:xfrm>
              <a:off x="5894640" y="3809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47960" y="4267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43040" y="304812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352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89880" y="4419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625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131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131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25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2520" y="3886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73440" y="342900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73440" y="46479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75080" y="3504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608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374720" y="4647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1274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54240" y="3048120"/>
              <a:ext cx="3962160" cy="1981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073160" y="838080"/>
            <a:ext cx="37148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95920" y="449568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67160" y="137160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9800" y="121932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38400" y="6019920"/>
            <a:ext cx="12380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58880" y="6019920"/>
            <a:ext cx="14036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7644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6252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66960" y="5257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66240" y="525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38400" y="6095880"/>
            <a:ext cx="74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119080" y="6172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3222360" y="5508360"/>
            <a:ext cx="76320" cy="1403640"/>
          </a:xfrm>
          <a:custGeom>
            <a:avLst/>
            <a:gdLst>
              <a:gd name="textAreaLeft" fmla="*/ 22320 w 76320"/>
              <a:gd name="textAreaRight" fmla="*/ 76320 w 76320"/>
              <a:gd name="textAreaTop" fmla="*/ 58320 h 1403640"/>
              <a:gd name="textAreaBottom" fmla="*/ 1345320 h 14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60120" y="62326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z &lt;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044960" y="6019920"/>
            <a:ext cx="2806200" cy="630360"/>
            <a:chOff x="4044960" y="6019920"/>
            <a:chExt cx="2806200" cy="630360"/>
          </a:xfrm>
        </p:grpSpPr>
        <p:sp>
          <p:nvSpPr>
            <p:cNvPr id="587" name=""/>
            <p:cNvSpPr/>
            <p:nvPr/>
          </p:nvSpPr>
          <p:spPr>
            <a:xfrm>
              <a:off x="4044960" y="6019920"/>
              <a:ext cx="2806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5409720" y="4807080"/>
              <a:ext cx="76320" cy="2806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16640 h 2806200"/>
                <a:gd name="textAreaBottom" fmla="*/ 2689560 h 280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28000" y="625140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      </a:t>
              </a: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y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866960" y="838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00240" y="1143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2871-C3E9-4174-A226-3F99D07E1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9575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imed Automat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52200" y="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im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451360" y="2895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22520" y="3733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2084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94000" y="2286000"/>
            <a:ext cx="412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84720" y="1295280"/>
            <a:ext cx="4125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3240" y="1752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93680" y="914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8280" y="914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8152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33960" y="1752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98080" y="13716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75800" y="2895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7260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新細明體"/>
              </a:rPr>
              <a:t>x :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85920" y="20574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33640" y="1295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733400" y="1447920"/>
            <a:ext cx="165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806560" y="16765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568160" y="1676520"/>
            <a:ext cx="825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035680" y="838080"/>
            <a:ext cx="3972960" cy="2075400"/>
            <a:chOff x="5035680" y="838080"/>
            <a:chExt cx="3972960" cy="2075400"/>
          </a:xfrm>
        </p:grpSpPr>
        <p:grpSp>
          <p:nvGrpSpPr>
            <p:cNvPr id="613" name=""/>
            <p:cNvGrpSpPr/>
            <p:nvPr/>
          </p:nvGrpSpPr>
          <p:grpSpPr>
            <a:xfrm>
              <a:off x="5072040" y="838080"/>
              <a:ext cx="3936600" cy="2075400"/>
              <a:chOff x="5072040" y="838080"/>
              <a:chExt cx="3936600" cy="2075400"/>
            </a:xfrm>
          </p:grpSpPr>
          <p:sp>
            <p:nvSpPr>
              <p:cNvPr id="614" name=""/>
              <p:cNvSpPr/>
              <p:nvPr/>
            </p:nvSpPr>
            <p:spPr>
              <a:xfrm>
                <a:off x="596268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7840" y="2209680"/>
                <a:ext cx="42084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4784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2680" y="1143000"/>
                <a:ext cx="4208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86560" y="838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l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12480" y="2514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d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30480" y="8380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582960" y="2057400"/>
                <a:ext cx="73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86560" y="121932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105400" y="1066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2040" y="220968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  <a:ea typeface="新細明體"/>
                  </a:rPr>
                  <a:t>y &lt;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40160" y="167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  <a:ea typeface="新細明體"/>
                  </a:rPr>
                  <a:t>y &gt;=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86560" y="2438280"/>
                <a:ext cx="83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ff"/>
                    </a:solidFill>
                    <a:latin typeface="Arial"/>
                    <a:ea typeface="新細明體"/>
                  </a:rPr>
                  <a:t>y :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83880" y="1295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00560" y="1523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383520" y="243828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131160" y="1523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5035680" y="838080"/>
              <a:ext cx="3961440" cy="205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54240" y="3048120"/>
            <a:ext cx="3962160" cy="1998720"/>
            <a:chOff x="3054240" y="3048120"/>
            <a:chExt cx="3962160" cy="1998720"/>
          </a:xfrm>
        </p:grpSpPr>
        <p:sp>
          <p:nvSpPr>
            <p:cNvPr id="633" name=""/>
            <p:cNvSpPr/>
            <p:nvPr/>
          </p:nvSpPr>
          <p:spPr>
            <a:xfrm>
              <a:off x="5894640" y="3809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7960" y="4267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3040" y="304812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61680" y="33526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89880" y="4419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  <a:ea typeface="新細明體"/>
                </a:rPr>
                <a:t>z &lt;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625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13120" y="4419360"/>
              <a:ext cx="41256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31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62520" y="3352680"/>
              <a:ext cx="41256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32520" y="3886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a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3440" y="342900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3440" y="46479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: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75080" y="3504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608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374720" y="46479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127400" y="37335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54240" y="3048120"/>
              <a:ext cx="3962160" cy="1981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073160" y="838080"/>
            <a:ext cx="371484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95920" y="449568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76440" y="236232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59800" y="1219320"/>
            <a:ext cx="2476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38400" y="6019920"/>
            <a:ext cx="12380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44960" y="6019920"/>
            <a:ext cx="280656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8880" y="6019920"/>
            <a:ext cx="14036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47644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96252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851520" y="5638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66960" y="5257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66240" y="525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71000" y="5257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38400" y="6095880"/>
            <a:ext cx="742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119080" y="6172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4667040" y="4064040"/>
            <a:ext cx="76320" cy="4292640"/>
          </a:xfrm>
          <a:custGeom>
            <a:avLst/>
            <a:gdLst>
              <a:gd name="textAreaLeft" fmla="*/ 22320 w 76320"/>
              <a:gd name="textAreaRight" fmla="*/ 76320 w 76320"/>
              <a:gd name="textAreaTop" fmla="*/ 178560 h 4292640"/>
              <a:gd name="textAreaBottom" fmla="*/ 4114080 h 429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2760" y="62485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 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新細明體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851520" y="4800600"/>
            <a:ext cx="1583640" cy="1219320"/>
            <a:chOff x="6851520" y="4800600"/>
            <a:chExt cx="1583640" cy="1219320"/>
          </a:xfrm>
        </p:grpSpPr>
        <p:sp>
          <p:nvSpPr>
            <p:cNvPr id="668" name=""/>
            <p:cNvSpPr/>
            <p:nvPr/>
          </p:nvSpPr>
          <p:spPr>
            <a:xfrm>
              <a:off x="7469640" y="4800600"/>
              <a:ext cx="96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x = 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y = 0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  <a:ea typeface="新細明體"/>
                </a:rPr>
                <a:t>z = 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51520" y="5486400"/>
              <a:ext cx="578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29680" y="4800600"/>
              <a:ext cx="990720" cy="990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866960" y="838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00240" y="1143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8344-8A71-4AE7-B385-4D8D0CEDE6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Timed CT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9560" y="318600"/>
            <a:ext cx="8420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CTL = CTL +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01040" cy="5940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74640" y="3065400"/>
            <a:ext cx="51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4744800" cy="20826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676520" y="3809880"/>
            <a:ext cx="777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 over formula clocks and automata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4343760"/>
            <a:ext cx="5486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eeze operator” introduces new formula clock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5262840"/>
            <a:ext cx="77724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], A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like in 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079E-A065-4BAC-9019-EB35E5A26C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990720" y="1752480"/>
            <a:ext cx="16761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Derived Op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1476360" cy="4953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914560" cy="4381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990360" cy="4762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3886200" y="4191120"/>
            <a:ext cx="2219400" cy="5331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942120" y="2512440"/>
            <a:ext cx="78476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ong any pa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lds continuously until within 7 time un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ome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94760" y="1828440"/>
            <a:ext cx="3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94760" y="4190760"/>
            <a:ext cx="3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79920" y="5095440"/>
            <a:ext cx="718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per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 becomes valid within 5 time un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0720" y="4114800"/>
            <a:ext cx="167616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CCCD-62EC-4216-BA64-857638210B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Light Switch (cont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952880" cy="24670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990360" y="274284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85840" y="4038480"/>
            <a:ext cx="75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6560" y="4190760"/>
            <a:ext cx="75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76920" y="3809880"/>
            <a:ext cx="4495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209680" y="3581280"/>
                <a:ext cx="582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1676520"/>
                <a:ext cx="2438280" cy="49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/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e>
                        </m:d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ABA6-E2CF-4E32-B3C6-502472090B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liness Proper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695760" cy="6192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743280" cy="6001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2305080" cy="6001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533520" y="1447920"/>
            <a:ext cx="396216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2971800"/>
            <a:ext cx="38098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4572000"/>
            <a:ext cx="22096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79920" y="2133360"/>
            <a:ext cx="7350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eive(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occurs within 5 time units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d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54440" y="3657240"/>
            <a:ext cx="716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eive(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occur exactly 11 time units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d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77760" y="5331960"/>
            <a:ext cx="70045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ccurs periodically (exactly) every 25 tim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ote: o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may occur in 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62F2-20FA-4949-B89A-5A04F2FDDA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imed Automata</a:t>
            </a:r>
            <a:br>
              <a:rPr sz="3200"/>
            </a:b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Intelligent Light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971800"/>
            <a:ext cx="9144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971800"/>
            <a:ext cx="914400" cy="8380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914400" cy="838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Tahoma"/>
              </a:rPr>
              <a:t>B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6"/>
            <a:endCxn id="94" idx="2"/>
          </p:cNvCxnSpPr>
          <p:nvPr/>
        </p:nvCxnSpPr>
        <p:spPr>
          <a:xfrm>
            <a:off x="2895120" y="3390480"/>
            <a:ext cx="1677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4" idx="6"/>
            <a:endCxn id="95" idx="2"/>
          </p:cNvCxnSpPr>
          <p:nvPr/>
        </p:nvCxnSpPr>
        <p:spPr>
          <a:xfrm>
            <a:off x="5486040" y="3390480"/>
            <a:ext cx="152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4"/>
            <a:endCxn id="93" idx="4"/>
          </p:cNvCxnSpPr>
          <p:nvPr/>
        </p:nvCxnSpPr>
        <p:spPr>
          <a:xfrm rot="5400000">
            <a:off x="3732120" y="2514960"/>
            <a:ext cx="2520" cy="25916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0"/>
            <a:endCxn id="93" idx="0"/>
          </p:cNvCxnSpPr>
          <p:nvPr/>
        </p:nvCxnSpPr>
        <p:spPr>
          <a:xfrm rot="5400000">
            <a:off x="4951440" y="457920"/>
            <a:ext cx="2160" cy="5029920"/>
          </a:xfrm>
          <a:prstGeom prst="curvedConnector5">
            <a:avLst>
              <a:gd name="adj1" fmla="val -14400000"/>
              <a:gd name="adj2" fmla="val 49996"/>
              <a:gd name="adj3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168360" y="513864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 real-valued clock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5000" y="302724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X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7960" y="28195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X&lt;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65560" y="42670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X&gt;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8920" y="30542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1640" y="30542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50920" y="2635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14440" y="39625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705D-1268-4D8A-B55D-C099382D6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407280" y="4276800"/>
            <a:ext cx="653760" cy="6429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84240" y="534348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62320" y="428292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02080" y="4627440"/>
            <a:ext cx="158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15000" y="4614840"/>
            <a:ext cx="1571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45160" y="440064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9960" y="4497480"/>
            <a:ext cx="4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32120" y="4473720"/>
            <a:ext cx="5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C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8040" y="4348080"/>
            <a:ext cx="5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02440" y="4348080"/>
            <a:ext cx="49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86400" y="5319720"/>
            <a:ext cx="654120" cy="6429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01880" y="429588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41800" y="532620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56000" y="56466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807080" y="5643360"/>
            <a:ext cx="155556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6120" y="54928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36480" y="5467320"/>
            <a:ext cx="4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00440" y="5456160"/>
            <a:ext cx="5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C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07520" y="5391000"/>
            <a:ext cx="5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81920" y="5391000"/>
            <a:ext cx="49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2280" y="423864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60480" y="2963880"/>
          <a:ext cx="84924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2963880"/>
                    <a:ext cx="8492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1936800" y="1668600"/>
          <a:ext cx="84924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6800" y="1668600"/>
                    <a:ext cx="8492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4044960" y="1898640"/>
          <a:ext cx="117648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4960" y="1898640"/>
                    <a:ext cx="1176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3962520" y="1981080"/>
            <a:ext cx="1244520" cy="1168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66440" y="2233440"/>
            <a:ext cx="47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140000">
            <a:off x="3009960" y="2209680"/>
            <a:ext cx="901800" cy="216000"/>
          </a:xfrm>
          <a:prstGeom prst="rightArrow">
            <a:avLst>
              <a:gd name="adj1" fmla="val 50000"/>
              <a:gd name="adj2" fmla="val 208769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20160000">
            <a:off x="2933640" y="3276360"/>
            <a:ext cx="978120" cy="215640"/>
          </a:xfrm>
          <a:prstGeom prst="rightArrow">
            <a:avLst>
              <a:gd name="adj1" fmla="val 50000"/>
              <a:gd name="adj2" fmla="val 22681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48240" y="2590920"/>
            <a:ext cx="1054080" cy="215640"/>
          </a:xfrm>
          <a:prstGeom prst="rightArrow">
            <a:avLst>
              <a:gd name="adj1" fmla="val 50000"/>
              <a:gd name="adj2" fmla="val 24443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43880" y="1600200"/>
            <a:ext cx="1968480" cy="2273400"/>
          </a:xfrm>
          <a:prstGeom prst="upArrow">
            <a:avLst>
              <a:gd name="adj1" fmla="val 50000"/>
              <a:gd name="adj2" fmla="val 5774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43880" y="1523880"/>
            <a:ext cx="2044440" cy="12067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37320" y="2903400"/>
            <a:ext cx="6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´</a:t>
            </a:r>
            <a:r>
              <a:rPr b="1" lang="zh-TW" sz="14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18520" y="3513240"/>
            <a:ext cx="41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71040" y="3932280"/>
            <a:ext cx="182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Critici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Fischer’s Protocol</a:t>
            </a:r>
            <a:br>
              <a:rPr sz="2800"/>
            </a:br>
            <a:r>
              <a:rPr b="1" i="1" lang="en-US" sz="2400" spc="-1" strike="noStrike">
                <a:solidFill>
                  <a:srgbClr val="ff0000"/>
                </a:solidFill>
                <a:latin typeface="Arial Black"/>
                <a:ea typeface="新細明體"/>
              </a:rPr>
              <a:t>A simple MUTEX Algorith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7238880" y="4952880"/>
                <a:ext cx="232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¬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B37E-7C0C-4F24-AD8A-673D906CEC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407280" y="4276800"/>
            <a:ext cx="653760" cy="6429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534348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62320" y="428292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02080" y="4627440"/>
            <a:ext cx="158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15000" y="4614840"/>
            <a:ext cx="1571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45160" y="440064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69960" y="4497480"/>
            <a:ext cx="4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432120" y="4473720"/>
            <a:ext cx="5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C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8040" y="4348080"/>
            <a:ext cx="5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02440" y="4348080"/>
            <a:ext cx="49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86400" y="5319720"/>
            <a:ext cx="654120" cy="6429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1880" y="429588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41800" y="5326200"/>
            <a:ext cx="65412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56000" y="56466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807080" y="5643360"/>
            <a:ext cx="1555560" cy="1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6120" y="54928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36480" y="5467320"/>
            <a:ext cx="4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00440" y="5456160"/>
            <a:ext cx="5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C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07520" y="5391000"/>
            <a:ext cx="5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281920" y="5391000"/>
            <a:ext cx="49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2280" y="4238640"/>
            <a:ext cx="73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860480" y="2963880"/>
          <a:ext cx="84924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2963880"/>
                    <a:ext cx="8492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1936800" y="1668600"/>
          <a:ext cx="84924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6800" y="1668600"/>
                    <a:ext cx="8492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4044960" y="1898640"/>
          <a:ext cx="117648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4960" y="1898640"/>
                    <a:ext cx="1176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3962520" y="1981080"/>
            <a:ext cx="1244520" cy="1168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66440" y="2233440"/>
            <a:ext cx="47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140000">
            <a:off x="3009960" y="2209680"/>
            <a:ext cx="901800" cy="216000"/>
          </a:xfrm>
          <a:prstGeom prst="rightArrow">
            <a:avLst>
              <a:gd name="adj1" fmla="val 50000"/>
              <a:gd name="adj2" fmla="val 208769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20160000">
            <a:off x="2933640" y="3276360"/>
            <a:ext cx="978120" cy="215640"/>
          </a:xfrm>
          <a:prstGeom prst="rightArrow">
            <a:avLst>
              <a:gd name="adj1" fmla="val 50000"/>
              <a:gd name="adj2" fmla="val 22681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48240" y="2590920"/>
            <a:ext cx="1054080" cy="215640"/>
          </a:xfrm>
          <a:prstGeom prst="rightArrow">
            <a:avLst>
              <a:gd name="adj1" fmla="val 50000"/>
              <a:gd name="adj2" fmla="val 24443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43880" y="1600200"/>
            <a:ext cx="1968480" cy="2273400"/>
          </a:xfrm>
          <a:prstGeom prst="upArrow">
            <a:avLst>
              <a:gd name="adj1" fmla="val 50000"/>
              <a:gd name="adj2" fmla="val 5774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743880" y="1523880"/>
            <a:ext cx="2044440" cy="12067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37320" y="2903400"/>
            <a:ext cx="6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´</a:t>
            </a:r>
            <a:r>
              <a:rPr b="1" lang="zh-TW" sz="1400" spc="-1" strike="noStrike">
                <a:solidFill>
                  <a:srgbClr val="000000"/>
                </a:solidFill>
                <a:latin typeface="Benguiat Frisky ATT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44440" y="3513240"/>
            <a:ext cx="41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71040" y="3932280"/>
            <a:ext cx="182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Critici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Fischer’s Protocol</a:t>
            </a:r>
            <a:br>
              <a:rPr sz="2800"/>
            </a:br>
            <a:r>
              <a:rPr b="1" i="1" lang="en-US" sz="2400" spc="-1" strike="noStrike">
                <a:solidFill>
                  <a:srgbClr val="ff0000"/>
                </a:solidFill>
                <a:latin typeface="Arial Black"/>
                <a:ea typeface="新細明體"/>
              </a:rPr>
              <a:t>A simple MUTEX Algorith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7" name=""/>
          <p:cNvSpPr/>
          <p:nvPr/>
        </p:nvSpPr>
        <p:spPr>
          <a:xfrm>
            <a:off x="2418120" y="52570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Y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56880" y="4114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X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89920" y="5257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94400" y="41140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X&g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04120" y="518076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Y&g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529360" y="41140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新細明體"/>
              </a:rPr>
              <a:t>X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581960" y="4572000"/>
                <a:ext cx="23241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¬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∧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∨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31B6-A95B-4528-A67E-87893E5208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279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P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457200" y="1523880"/>
          <a:ext cx="899172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9917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457200" y="1523880"/>
            <a:ext cx="8991720" cy="990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880" y="3002040"/>
            <a:ext cx="163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4114800" cy="20494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941440" y="2514600"/>
            <a:ext cx="65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27440" y="3733920"/>
            <a:ext cx="65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66560" y="3809880"/>
            <a:ext cx="65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512040" y="3352680"/>
                <a:ext cx="547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6713280" cy="20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3AE5-1FD9-4CB9-AD92-8DD02D0D3E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Elapsed time in pa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33520" y="1447920"/>
          <a:ext cx="54100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54100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457200" y="1447920"/>
            <a:ext cx="5562720" cy="1600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6553080" cy="19731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56840" y="3230640"/>
            <a:ext cx="1637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17200" y="5790960"/>
            <a:ext cx="458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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520" y="3733560"/>
            <a:ext cx="75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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648320" y="5791320"/>
            <a:ext cx="4190760" cy="533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715E-036D-4693-9F6E-1FE64B4487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34760" y="380520"/>
            <a:ext cx="842796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CTL Seman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440480" cy="41241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5794920" y="1450800"/>
            <a:ext cx="3764520" cy="222300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(location, clock valu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formula clock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- set of path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- position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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i) - elapsed tim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07680" y="2281680"/>
            <a:ext cx="32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9560" y="5649840"/>
            <a:ext cx="6407280" cy="5155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,d) &lt;&lt;(i’,d’) iff (i&lt;j) or ((i=j) and (d&lt;d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5913-ED08-4A35-BC50-FB6DA6C9BE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 Automata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Model Chec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821720" cy="348624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Infinite State Spa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CF24-F9E2-4A8E-A569-C834E85874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4724280" y="2362320"/>
            <a:ext cx="4343400" cy="31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43400" y="20574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4876920" y="2590920"/>
                <a:ext cx="414000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</m:t>
                        </m:r>
                        <m:r>
                          <m:rPr>
                            <m:lit/>
                            <m:nor/>
                          </m:rPr>
                          <m:t xml:space="preserve"> Be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Be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location 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of an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d automa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,w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atisfy sa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erti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1523880" y="3809880"/>
                <a:ext cx="292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2057400" y="4267080"/>
                <a:ext cx="2412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0B77-C3CD-45F8-9581-551699B853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724280" y="2362320"/>
            <a:ext cx="4343400" cy="31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20574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4876920" y="2590920"/>
                <a:ext cx="414000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</m:t>
                        </m:r>
                        <m:r>
                          <m:rPr>
                            <m:lit/>
                            <m:nor/>
                          </m:rPr>
                          <m:t xml:space="preserve"> Be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Beh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location 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of an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d automa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,w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atisfy sa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erti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1523880" y="3809880"/>
                <a:ext cx="292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2057400" y="4267080"/>
                <a:ext cx="2412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4" name=""/>
          <p:cNvSpPr/>
          <p:nvPr/>
        </p:nvSpPr>
        <p:spPr>
          <a:xfrm>
            <a:off x="990720" y="35812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33526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0600" y="5562720"/>
            <a:ext cx="2224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max determ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by timed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(and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BE1A-76F1-46BE-A5A6-9B589A00D5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4724280" y="2362320"/>
            <a:ext cx="43434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343400" y="2057400"/>
            <a:ext cx="152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876920" y="2470320"/>
                <a:ext cx="38606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rPr>
                            <m:lit/>
                            <m:nor/>
                          </m:rPr>
                          <m:t xml:space="preserve"> satis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xact same condition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990720" y="35812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526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91400" y="5410080"/>
            <a:ext cx="22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max determ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by timed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(and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48520" y="4800600"/>
            <a:ext cx="596880" cy="914400"/>
          </a:xfrm>
          <a:custGeom>
            <a:avLst/>
            <a:gdLst/>
            <a:ahLst/>
            <a:rect l="l" t="t" r="r" b="b"/>
            <a:pathLst>
              <a:path w="376" h="576">
                <a:moveTo>
                  <a:pt x="136" y="0"/>
                </a:moveTo>
                <a:cubicBezTo>
                  <a:pt x="68" y="192"/>
                  <a:pt x="0" y="384"/>
                  <a:pt x="40" y="480"/>
                </a:cubicBezTo>
                <a:cubicBezTo>
                  <a:pt x="80" y="576"/>
                  <a:pt x="228" y="576"/>
                  <a:pt x="376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1523880" y="3809880"/>
                <a:ext cx="292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057400" y="4267080"/>
                <a:ext cx="2412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rot="1327200">
            <a:off x="8260560" y="1905120"/>
            <a:ext cx="1349640" cy="642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to JP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396E-A537-4FDA-B1B7-25AA2AEA71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746360" y="1919160"/>
            <a:ext cx="779400" cy="852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4800" y="4694400"/>
            <a:ext cx="779400" cy="852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123640" y="2778120"/>
            <a:ext cx="12600" cy="189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92280" y="1924200"/>
            <a:ext cx="22212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08040" y="1887480"/>
            <a:ext cx="28548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98800" y="162720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04440" y="5425920"/>
            <a:ext cx="358920" cy="2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6600" y="5560920"/>
            <a:ext cx="6192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59080" y="5475240"/>
            <a:ext cx="23472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9280" y="5338800"/>
            <a:ext cx="360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4680" y="190512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8720" y="4726080"/>
            <a:ext cx="36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Tahoma"/>
                <a:ea typeface="新細明體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43440" y="3476520"/>
            <a:ext cx="30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8760" y="838080"/>
            <a:ext cx="158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(</a:t>
            </a:r>
            <a:r>
              <a:rPr b="1" i="1" lang="en-US" sz="1400" spc="-1" strike="noStrike">
                <a:solidFill>
                  <a:srgbClr val="996633"/>
                </a:solidFill>
                <a:latin typeface="Tahoma"/>
                <a:ea typeface="新細明體"/>
              </a:rPr>
              <a:t>Alur &amp; Dill 199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0440" y="1430280"/>
            <a:ext cx="21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  <a:ea typeface="新細明體"/>
              </a:rPr>
              <a:t>Clocks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新細明體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2200" y="2932200"/>
            <a:ext cx="121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&lt;=5 &amp; y&gt;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1520" y="4192560"/>
            <a:ext cx="685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 :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1600" y="1887480"/>
            <a:ext cx="3108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u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Boolean combination of com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integer bo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02840" y="2840040"/>
            <a:ext cx="240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Action perfumed on c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6320" y="415296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新細明體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1080" y="5468760"/>
            <a:ext cx="40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2.4 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1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5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4.2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7040" y="5335560"/>
            <a:ext cx="67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e(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0" y="5676840"/>
            <a:ext cx="111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09640" y="4554360"/>
            <a:ext cx="3890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2.4 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1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0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1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79040" y="4519440"/>
            <a:ext cx="30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72320" y="4778280"/>
            <a:ext cx="111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03480" y="2277720"/>
            <a:ext cx="2876760" cy="65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79480" y="3186000"/>
            <a:ext cx="61844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" y="9758"/>
                </a:moveTo>
                <a:arcTo wR="10800" hR="10800" stAng="-10467697" swAng="5194962"/>
                <a:lnTo>
                  <a:pt x="10800" y="10800"/>
                </a:lnTo>
                <a:close/>
              </a:path>
              <a:path fill="none" w="21600" h="21600">
                <a:moveTo>
                  <a:pt x="50" y="9758"/>
                </a:moveTo>
                <a:arcTo wR="10800" hR="10800" stAng="-10467697" swAng="519496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411360"/>
            <a:ext cx="426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新細明體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locatio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v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u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where v,u are in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  <a:ea typeface="新細明體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4680" y="2878200"/>
            <a:ext cx="179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for synchro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62080" y="3564000"/>
            <a:ext cx="1066680" cy="317520"/>
          </a:xfrm>
          <a:custGeom>
            <a:avLst/>
            <a:gdLst/>
            <a:ahLst/>
            <a:rect l="l" t="t" r="r" b="b"/>
            <a:pathLst>
              <a:path w="528" h="152">
                <a:moveTo>
                  <a:pt x="0" y="0"/>
                </a:moveTo>
                <a:cubicBezTo>
                  <a:pt x="76" y="68"/>
                  <a:pt x="152" y="136"/>
                  <a:pt x="240" y="144"/>
                </a:cubicBezTo>
                <a:cubicBezTo>
                  <a:pt x="328" y="152"/>
                  <a:pt x="428" y="100"/>
                  <a:pt x="528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9F12-C3E7-4A3C-8C25-A01EAB989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724280" y="2362320"/>
            <a:ext cx="43434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43400" y="2057400"/>
            <a:ext cx="152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876920" y="2470320"/>
                <a:ext cx="38606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rPr>
                            <m:lit/>
                            <m:nor/>
                          </m:rPr>
                          <m:t xml:space="preserve"> satis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xact same condition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990720" y="43434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90720" y="35812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7524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59092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3526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99072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75248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590920" y="434304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990720" y="358092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90720" y="4343400"/>
            <a:ext cx="76176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lnTo>
                  <a:pt x="0" y="480"/>
                </a:lnTo>
                <a:lnTo>
                  <a:pt x="4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143000" y="4648320"/>
            <a:ext cx="91440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34640" y="5746680"/>
            <a:ext cx="5176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An equivalence class (i.e. a </a:t>
            </a:r>
            <a:r>
              <a:rPr b="0" i="1" lang="da-DK" sz="1800" spc="-1" strike="noStrike">
                <a:solidFill>
                  <a:srgbClr val="000000"/>
                </a:solidFill>
                <a:latin typeface="Tahoma"/>
              </a:rPr>
              <a:t>region</a:t>
            </a: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in fact there is only a </a:t>
            </a:r>
            <a:r>
              <a:rPr b="0" i="1" lang="da-DK" sz="1800" spc="-1" strike="noStrike">
                <a:solidFill>
                  <a:srgbClr val="000000"/>
                </a:solidFill>
                <a:latin typeface="Tahoma"/>
              </a:rPr>
              <a:t>finite</a:t>
            </a: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 number of regions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14600" y="4267080"/>
            <a:ext cx="152280" cy="152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590920" y="4343400"/>
            <a:ext cx="761760" cy="76212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90920" y="3581280"/>
            <a:ext cx="7617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352680" y="4343400"/>
            <a:ext cx="0" cy="7621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F846-2273-4390-9704-4D58FC0FF7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4724280" y="2362320"/>
            <a:ext cx="43434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343400" y="2057400"/>
            <a:ext cx="152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4876920" y="2470320"/>
                <a:ext cx="386064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rPr>
                            <m:lit/>
                            <m:nor/>
                          </m:rPr>
                          <m:t xml:space="preserve"> satis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xact same condition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7" name=""/>
          <p:cNvSpPr/>
          <p:nvPr/>
        </p:nvSpPr>
        <p:spPr>
          <a:xfrm>
            <a:off x="990720" y="43434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90720" y="35812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17524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59092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3526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99072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75248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590920" y="434304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990720" y="358092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90720" y="4343400"/>
            <a:ext cx="76176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lnTo>
                  <a:pt x="0" y="480"/>
                </a:lnTo>
                <a:lnTo>
                  <a:pt x="4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43000" y="464832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098000" y="5867280"/>
            <a:ext cx="3801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An equivalence class (i.e. a </a:t>
            </a:r>
            <a:r>
              <a:rPr b="0" i="1" lang="da-DK" sz="1800" spc="-1" strike="noStrike">
                <a:solidFill>
                  <a:srgbClr val="000000"/>
                </a:solidFill>
                <a:latin typeface="Tahoma"/>
              </a:rPr>
              <a:t>region</a:t>
            </a: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90720" y="3581280"/>
            <a:ext cx="76176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480"/>
                </a:moveTo>
                <a:lnTo>
                  <a:pt x="480" y="480"/>
                </a:lnTo>
                <a:lnTo>
                  <a:pt x="480" y="0"/>
                </a:lnTo>
                <a:lnTo>
                  <a:pt x="0" y="48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990720" y="4343400"/>
            <a:ext cx="76176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52480" y="35812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lnTo>
                  <a:pt x="0" y="480"/>
                </a:lnTo>
                <a:lnTo>
                  <a:pt x="4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52480" y="3581280"/>
            <a:ext cx="0" cy="762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752480" y="2133720"/>
            <a:ext cx="838440" cy="14475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52480" y="3581280"/>
            <a:ext cx="83844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590920" y="2133720"/>
            <a:ext cx="761760" cy="14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590920" y="213336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2133720"/>
            <a:ext cx="914400" cy="144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352680" y="2133360"/>
            <a:ext cx="0" cy="1447560"/>
          </a:xfrm>
          <a:prstGeom prst="line">
            <a:avLst/>
          </a:prstGeom>
          <a:ln w="572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84720" y="5181480"/>
            <a:ext cx="2960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Successor regions, Succ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09680" y="3809880"/>
            <a:ext cx="2057400" cy="12956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22840" y="43750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AC62-5973-48BF-8D62-F8E07503AB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5638680" y="4267080"/>
            <a:ext cx="4038840" cy="221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724280" y="1981080"/>
            <a:ext cx="3505320" cy="205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egions</a:t>
            </a:r>
            <a:br>
              <a:rPr sz="4000"/>
            </a:br>
            <a:r>
              <a:rPr b="0" i="1" lang="da-DK" sz="3200" spc="-1" strike="noStrike">
                <a:solidFill>
                  <a:srgbClr val="5e574e"/>
                </a:solidFill>
                <a:latin typeface="Arial Black"/>
              </a:rPr>
              <a:t>Finite partitioning of state spa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990720" y="2209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90720" y="51055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717360" y="5213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000" y="2165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81440" y="2722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267080" y="1752480"/>
            <a:ext cx="1524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876920" y="2133720"/>
                <a:ext cx="3124080" cy="17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ff 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r>
                          <m:rPr>
                            <m:lit/>
                            <m:nor/>
                          </m:rPr>
                          <m:t xml:space="preserve">w'</m:t>
                        </m:r>
                        <m:r>
                          <m:rPr>
                            <m:lit/>
                            <m:nor/>
                          </m:rPr>
                          <m:t xml:space="preserve"> satis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xact same condition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990720" y="43434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90720" y="35812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17524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259092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3352680" y="25142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99072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752480" y="3581280"/>
            <a:ext cx="160020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590920" y="434304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990720" y="358092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90720" y="4343400"/>
            <a:ext cx="76176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lnTo>
                  <a:pt x="0" y="480"/>
                </a:lnTo>
                <a:lnTo>
                  <a:pt x="4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3000" y="4648320"/>
            <a:ext cx="91440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98000" y="5746680"/>
            <a:ext cx="3955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An equivalence class (i.e. a </a:t>
            </a:r>
            <a:r>
              <a:rPr b="0" i="1" lang="da-DK" sz="1800" spc="-1" strike="noStrike">
                <a:solidFill>
                  <a:srgbClr val="000000"/>
                </a:solidFill>
                <a:latin typeface="Tahoma"/>
              </a:rPr>
              <a:t>region</a:t>
            </a: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)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90720" y="4343400"/>
            <a:ext cx="0" cy="7621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90720" y="5105520"/>
            <a:ext cx="7617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7160" y="452772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99"/>
                </a:solidFill>
                <a:latin typeface="Tahoma"/>
              </a:rPr>
              <a:t>{x}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067760" y="51372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8000"/>
                </a:solidFill>
                <a:latin typeface="Tahoma"/>
              </a:rPr>
              <a:t>{y}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22840" y="43750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3040" y="5562720"/>
            <a:ext cx="9946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6089760" y="4495680"/>
                <a:ext cx="340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never  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≈</m:t>
                        </m:r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,u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sat 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⇔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,u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sat 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6" name=""/>
          <p:cNvSpPr/>
          <p:nvPr/>
        </p:nvSpPr>
        <p:spPr>
          <a:xfrm>
            <a:off x="4969800" y="4191120"/>
            <a:ext cx="1291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596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9768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259800" y="521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92920" y="414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696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6318-012A-43D5-9E73-68423B4A8F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Region graph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a simple timed autom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9410760" cy="33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D81E-569C-4240-890F-161ABB6CB37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2590920" y="2438280"/>
            <a:ext cx="6781680" cy="411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2209680"/>
            <a:ext cx="1981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029200" y="533520"/>
            <a:ext cx="4876920" cy="190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Fischers agai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181480" y="778680"/>
            <a:ext cx="4505760" cy="1510560"/>
            <a:chOff x="5181480" y="778680"/>
            <a:chExt cx="4505760" cy="1510560"/>
          </a:xfrm>
        </p:grpSpPr>
        <p:sp>
          <p:nvSpPr>
            <p:cNvPr id="989" name=""/>
            <p:cNvSpPr/>
            <p:nvPr/>
          </p:nvSpPr>
          <p:spPr>
            <a:xfrm>
              <a:off x="9088560" y="943920"/>
              <a:ext cx="56448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1480" y="1783440"/>
              <a:ext cx="56484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49240" y="948960"/>
              <a:ext cx="56484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01400" y="1220040"/>
              <a:ext cx="13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13000" y="1209960"/>
              <a:ext cx="13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22960" y="1041480"/>
              <a:ext cx="45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45000" y="1118880"/>
              <a:ext cx="45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113400" y="1099080"/>
              <a:ext cx="57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59680" y="1000080"/>
              <a:ext cx="546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:=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137440" y="1000080"/>
              <a:ext cx="49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V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070560" y="1764720"/>
              <a:ext cx="56484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96600" y="959040"/>
              <a:ext cx="56484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31600" y="1769760"/>
              <a:ext cx="564840" cy="50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761440" y="2021760"/>
              <a:ext cx="13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706160" y="2019600"/>
              <a:ext cx="13435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70760" y="1900800"/>
              <a:ext cx="45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5840" y="1880640"/>
              <a:ext cx="45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86040" y="1873440"/>
              <a:ext cx="57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41320" y="1820520"/>
              <a:ext cx="546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:=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19080" y="1820520"/>
              <a:ext cx="49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V=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01960" y="16786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Y&lt;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71160" y="778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X: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613920" y="167868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Y: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70800" y="77868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78720" y="161676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Y&gt;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99160" y="77868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X&lt;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6019920" y="152280"/>
                <a:ext cx="2247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¬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6" name=""/>
          <p:cNvSpPr/>
          <p:nvPr/>
        </p:nvSpPr>
        <p:spPr>
          <a:xfrm>
            <a:off x="772200" y="2666880"/>
            <a:ext cx="10022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A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70400" y="3505320"/>
            <a:ext cx="10036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6960" y="4267080"/>
            <a:ext cx="1098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CS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5520" y="5029200"/>
            <a:ext cx="10998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B1,CS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8400" y="5867280"/>
            <a:ext cx="1194120" cy="3070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CS1,CS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1" name=""/>
          <p:cNvCxnSpPr>
            <a:stCxn id="1016" idx="2"/>
            <a:endCxn id="1017" idx="0"/>
          </p:cNvCxnSpPr>
          <p:nvPr/>
        </p:nvCxnSpPr>
        <p:spPr>
          <a:xfrm>
            <a:off x="1272960" y="2984040"/>
            <a:ext cx="1080" cy="521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2" name=""/>
          <p:cNvCxnSpPr>
            <a:stCxn id="1017" idx="2"/>
            <a:endCxn id="1018" idx="0"/>
          </p:cNvCxnSpPr>
          <p:nvPr/>
        </p:nvCxnSpPr>
        <p:spPr>
          <a:xfrm flipH="1">
            <a:off x="1245600" y="3822840"/>
            <a:ext cx="27720" cy="444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1018" idx="2"/>
            <a:endCxn id="1019" idx="0"/>
          </p:cNvCxnSpPr>
          <p:nvPr/>
        </p:nvCxnSpPr>
        <p:spPr>
          <a:xfrm>
            <a:off x="1245960" y="458424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4" name=""/>
          <p:cNvCxnSpPr>
            <a:stCxn id="1019" idx="2"/>
            <a:endCxn id="1020" idx="0"/>
          </p:cNvCxnSpPr>
          <p:nvPr/>
        </p:nvCxnSpPr>
        <p:spPr>
          <a:xfrm>
            <a:off x="1246320" y="5346720"/>
            <a:ext cx="49680" cy="521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5" name=""/>
          <p:cNvSpPr/>
          <p:nvPr/>
        </p:nvSpPr>
        <p:spPr>
          <a:xfrm>
            <a:off x="527400" y="17524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000099"/>
                </a:solidFill>
                <a:latin typeface="Tahoma"/>
              </a:rPr>
              <a:t>Untimed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05560" y="2743200"/>
            <a:ext cx="10022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A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x=y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277160" y="2743200"/>
            <a:ext cx="10022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A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=y &lt;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72800" y="2743200"/>
            <a:ext cx="10022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A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x=y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68080" y="2743200"/>
            <a:ext cx="1002240" cy="52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A2,v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,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589920" y="3733920"/>
            <a:ext cx="1003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&lt;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y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9800" y="3733920"/>
            <a:ext cx="10144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y &lt; x&lt;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5440" y="3733920"/>
            <a:ext cx="10144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y &lt; x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y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399800" y="3733920"/>
            <a:ext cx="1003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y&lt;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104520" y="4800600"/>
            <a:ext cx="1003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,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399800" y="4800600"/>
            <a:ext cx="1003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B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y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21400" y="5334120"/>
            <a:ext cx="1098000" cy="733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ahoma"/>
              </a:rPr>
              <a:t>A1,CS2,v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新細明體"/>
              </a:rPr>
              <a:t>&lt;x,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26" idx="3"/>
            <a:endCxn id="1027" idx="1"/>
          </p:cNvCxnSpPr>
          <p:nvPr/>
        </p:nvCxnSpPr>
        <p:spPr>
          <a:xfrm>
            <a:off x="3917520" y="3007800"/>
            <a:ext cx="330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1027" idx="3"/>
            <a:endCxn id="1028" idx="1"/>
          </p:cNvCxnSpPr>
          <p:nvPr/>
        </p:nvCxnSpPr>
        <p:spPr>
          <a:xfrm>
            <a:off x="5308560" y="3007800"/>
            <a:ext cx="254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28" idx="3"/>
            <a:endCxn id="1029" idx="1"/>
          </p:cNvCxnSpPr>
          <p:nvPr/>
        </p:nvCxnSpPr>
        <p:spPr>
          <a:xfrm>
            <a:off x="6585120" y="3007800"/>
            <a:ext cx="273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0" name=""/>
          <p:cNvCxnSpPr>
            <a:stCxn id="1027" idx="2"/>
            <a:endCxn id="1030" idx="0"/>
          </p:cNvCxnSpPr>
          <p:nvPr/>
        </p:nvCxnSpPr>
        <p:spPr>
          <a:xfrm rot="5400000">
            <a:off x="4204440" y="3160440"/>
            <a:ext cx="46116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1" name=""/>
          <p:cNvCxnSpPr>
            <a:stCxn id="1026" idx="2"/>
          </p:cNvCxnSpPr>
          <p:nvPr/>
        </p:nvCxnSpPr>
        <p:spPr>
          <a:xfrm rot="5400000">
            <a:off x="2691720" y="3323880"/>
            <a:ext cx="765720" cy="664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2" name=""/>
          <p:cNvCxnSpPr>
            <a:stCxn id="1030" idx="3"/>
            <a:endCxn id="1031" idx="1"/>
          </p:cNvCxnSpPr>
          <p:nvPr/>
        </p:nvCxnSpPr>
        <p:spPr>
          <a:xfrm>
            <a:off x="4602240" y="4105080"/>
            <a:ext cx="227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31" idx="3"/>
            <a:endCxn id="1032" idx="1"/>
          </p:cNvCxnSpPr>
          <p:nvPr/>
        </p:nvCxnSpPr>
        <p:spPr>
          <a:xfrm>
            <a:off x="5944680" y="4105080"/>
            <a:ext cx="180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32" idx="3"/>
            <a:endCxn id="1033" idx="1"/>
          </p:cNvCxnSpPr>
          <p:nvPr/>
        </p:nvCxnSpPr>
        <p:spPr>
          <a:xfrm>
            <a:off x="7240320" y="4105080"/>
            <a:ext cx="1515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1033" idx="2"/>
            <a:endCxn id="1035" idx="0"/>
          </p:cNvCxnSpPr>
          <p:nvPr/>
        </p:nvCxnSpPr>
        <p:spPr>
          <a:xfrm>
            <a:off x="7902360" y="4476600"/>
            <a:ext cx="1080" cy="32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6" name=""/>
          <p:cNvCxnSpPr>
            <a:stCxn id="1035" idx="1"/>
            <a:endCxn id="1034" idx="3"/>
          </p:cNvCxnSpPr>
          <p:nvPr/>
        </p:nvCxnSpPr>
        <p:spPr>
          <a:xfrm flipH="1">
            <a:off x="7116120" y="5171760"/>
            <a:ext cx="2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7" name=""/>
          <p:cNvCxnSpPr>
            <a:stCxn id="1034" idx="1"/>
            <a:endCxn id="1036" idx="3"/>
          </p:cNvCxnSpPr>
          <p:nvPr/>
        </p:nvCxnSpPr>
        <p:spPr>
          <a:xfrm flipV="1" rot="10800000">
            <a:off x="4930200" y="5171760"/>
            <a:ext cx="1165680" cy="534240"/>
          </a:xfrm>
          <a:prstGeom prst="curvedConnector5">
            <a:avLst>
              <a:gd name="adj1" fmla="val 49984"/>
              <a:gd name="adj2" fmla="val 49966"/>
              <a:gd name="adj3" fmla="val 49984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8" name=""/>
          <p:cNvSpPr/>
          <p:nvPr/>
        </p:nvSpPr>
        <p:spPr>
          <a:xfrm>
            <a:off x="5058000" y="6051600"/>
            <a:ext cx="3533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No further behaviour possibl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43080" y="2089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800" spc="-1" strike="noStrike">
                <a:solidFill>
                  <a:srgbClr val="000099"/>
                </a:solidFill>
                <a:latin typeface="Tahoma"/>
              </a:rPr>
              <a:t>Timed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298000" y="2438280"/>
            <a:ext cx="1662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Par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egion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36" idx="1"/>
            <a:endCxn id="1036" idx="0"/>
          </p:cNvCxnSpPr>
          <p:nvPr/>
        </p:nvCxnSpPr>
        <p:spPr>
          <a:xfrm flipH="1" rot="10800000">
            <a:off x="3808800" y="5333400"/>
            <a:ext cx="561240" cy="372240"/>
          </a:xfrm>
          <a:prstGeom prst="curvedConnector5">
            <a:avLst>
              <a:gd name="adj1" fmla="val -40757"/>
              <a:gd name="adj2" fmla="val 101064"/>
              <a:gd name="adj3" fmla="val -4075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2" name=""/>
          <p:cNvCxnSpPr>
            <a:stCxn id="1029" idx="2"/>
            <a:endCxn id="1029" idx="3"/>
          </p:cNvCxnSpPr>
          <p:nvPr/>
        </p:nvCxnSpPr>
        <p:spPr>
          <a:xfrm flipH="1" flipV="1" rot="5400000">
            <a:off x="7491960" y="2884680"/>
            <a:ext cx="266040" cy="511920"/>
          </a:xfrm>
          <a:prstGeom prst="curvedConnector5">
            <a:avLst>
              <a:gd name="adj1" fmla="val -86178"/>
              <a:gd name="adj2" fmla="val 72343"/>
              <a:gd name="adj3" fmla="val -8617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BA55-9BE4-43DD-99D1-0819DF3AB0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Modified light swit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7562880" cy="26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3CBD-04FD-4E7D-9142-8C967CCB9A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3680" cy="723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934320" y="2971800"/>
                <a:ext cx="24382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6246360" y="488880"/>
            <a:ext cx="1866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Reachable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of region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58600" y="2470320"/>
            <a:ext cx="1297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D58A-4DEB-460F-897C-B4137C4626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Roughly speaking.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0" name=""/>
          <p:cNvSpPr/>
          <p:nvPr/>
        </p:nvSpPr>
        <p:spPr>
          <a:xfrm>
            <a:off x="975240" y="2286000"/>
            <a:ext cx="785268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ahoma"/>
              </a:rPr>
              <a:t>Model checking a timed autom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ahoma"/>
              </a:rPr>
              <a:t>against a TCTL-formula amount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ahoma"/>
              </a:rPr>
              <a:t>model checking its region 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ahoma"/>
              </a:rPr>
              <a:t>against a CTL-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122F-D675-4A59-B810-449D0299F1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9353520" cy="207648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8172360" cy="193032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Problem to be solv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3962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447048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50799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10000" y="5715000"/>
            <a:ext cx="4167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Model Checking TCTL is PSPACE-h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B01B-B5DB-4219-8564-D0D780C4F7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1000" y="5592600"/>
            <a:ext cx="3854520" cy="4082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76360" y="1898640"/>
            <a:ext cx="779760" cy="852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5160" y="4673520"/>
            <a:ext cx="779400" cy="852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755440" y="2757600"/>
            <a:ext cx="11160" cy="189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22640" y="1903320"/>
            <a:ext cx="22356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38400" y="1866960"/>
            <a:ext cx="28440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8800" y="160668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36240" y="5405400"/>
            <a:ext cx="35748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65520" y="5540400"/>
            <a:ext cx="6192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9440" y="5454720"/>
            <a:ext cx="23472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9640" y="5318280"/>
            <a:ext cx="3585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27640" y="188424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4920" y="4705200"/>
            <a:ext cx="36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87480" y="3456000"/>
            <a:ext cx="30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36480" y="2133720"/>
            <a:ext cx="14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新細明體"/>
              </a:rPr>
              <a:t>Clock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32560" y="2911320"/>
            <a:ext cx="121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&lt;=5 &amp; y&gt;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1880" y="4172040"/>
            <a:ext cx="685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 :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43600" y="277668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新細明體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4000" y="3809880"/>
            <a:ext cx="40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2.4 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1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5 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4.2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9920" y="3662280"/>
            <a:ext cx="131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e(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24680" y="3962520"/>
            <a:ext cx="111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11800" y="3211560"/>
            <a:ext cx="240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2.4 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=3.1415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99240" y="30243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e(3.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9800" y="3429000"/>
            <a:ext cx="111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10200" y="22096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x&lt;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24240" y="5029200"/>
            <a:ext cx="74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y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007480" y="2971800"/>
            <a:ext cx="420480" cy="6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83440" y="3000240"/>
            <a:ext cx="235080" cy="6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840" y="3179880"/>
            <a:ext cx="114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新細明體"/>
              </a:rPr>
              <a:t>In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2322360"/>
            <a:ext cx="2202840" cy="146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04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04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2470320"/>
            <a:ext cx="2596680" cy="27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0880" y="556740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8920" y="57405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84200" y="564192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9400" y="52563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83360" y="5638680"/>
            <a:ext cx="404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Invariants ensure progress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Safety Automata = </a:t>
            </a:r>
            <a:br>
              <a:rPr sz="4000"/>
            </a:br>
            <a:r>
              <a:rPr b="0" i="1" lang="en-US" sz="2400" spc="-1" strike="noStrike">
                <a:solidFill>
                  <a:srgbClr val="0033cc"/>
                </a:solidFill>
                <a:latin typeface="Arial Black"/>
                <a:ea typeface="新細明體"/>
              </a:rPr>
              <a:t>Timed Automata + Invaria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7461720" y="3798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996633"/>
                </a:solidFill>
                <a:latin typeface="Arial"/>
                <a:ea typeface="新細明體"/>
              </a:rPr>
              <a:t>(</a:t>
            </a:r>
            <a:r>
              <a:rPr b="1" i="1" lang="en-US" sz="1400" spc="-1" strike="noStrike">
                <a:solidFill>
                  <a:srgbClr val="996633"/>
                </a:solidFill>
                <a:latin typeface="Arial"/>
                <a:ea typeface="新細明體"/>
              </a:rPr>
              <a:t>Henzinger et al, 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8BC2-89B7-4998-AC46-D04DE61C8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Clock Constra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9193320" cy="29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6FBD-652D-4D61-B841-3CF61D06B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(Safety) Autom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6881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C861-2011-4AA6-821C-854DBB790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2133720"/>
          <a:ext cx="321948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32194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438280" y="1981080"/>
            <a:ext cx="457200" cy="10670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1599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95480" y="3885840"/>
            <a:ext cx="152640" cy="10666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7840" y="50288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2514600"/>
            <a:ext cx="457200" cy="6858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3400" y="2133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3BA0-E128-451E-B5E2-4ED6CB46F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新細明體"/>
              </a:rPr>
              <a:t>Timed Automata: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219480" cy="2390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5373720" cy="2705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438280" y="1981080"/>
            <a:ext cx="457200" cy="10670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6920" y="15998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95480" y="3885840"/>
            <a:ext cx="152640" cy="10666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7840" y="50288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514600"/>
            <a:ext cx="457200" cy="6858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3400" y="2133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F6CB-BA86-48B3-9820-58138C44A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6T08:31:16Z</dcterms:created>
  <dc:creator/>
  <dc:description/>
  <dc:language>en-US</dc:language>
  <cp:lastModifiedBy>farn</cp:lastModifiedBy>
  <cp:lastPrinted>1999-04-20T09:35:19Z</cp:lastPrinted>
  <dcterms:modified xsi:type="dcterms:W3CDTF">2002-09-16T02:08:09Z</dcterms:modified>
  <cp:revision>98</cp:revision>
  <dc:subject/>
  <dc:title>Timed Automata</dc:title>
</cp:coreProperties>
</file>