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35EE-0F49-4311-A6FD-B37DBFACD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0240" y="390168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3B38-8B11-434A-B832-160EA016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2256-2EA2-482C-A1EE-021370B99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164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268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024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164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268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FD8E-5F33-43EA-8477-1AE50C57D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6760" y="88920"/>
            <a:ext cx="83250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82C4-EDB9-49DA-B97F-A841F9C13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4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0240" y="390168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4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164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2680" y="84276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024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164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2680" y="3901680"/>
            <a:ext cx="269604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C86E-3D9F-4C0B-9CBD-2513747A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7095-F233-4C0B-9AFC-4F313C40D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FA90-C9DC-4618-88CC-11E2DAD07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6760" y="88920"/>
            <a:ext cx="83250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68CD-69D5-42B1-8E62-BB43C379D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A157-807A-4D1F-BF24-EBC0A47CB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90168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60D9-1E05-49E2-9A56-940840360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42760"/>
            <a:ext cx="40863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0240" y="3901680"/>
            <a:ext cx="8373960" cy="27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7EA9-FCA2-4C26-BE65-D48D1245E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1279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82960" y="6543360"/>
            <a:ext cx="1600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B84C-BE1D-4EAE-978D-6C726954FB7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"/>
          <p:cNvSpPr/>
          <p:nvPr/>
        </p:nvSpPr>
        <p:spPr>
          <a:xfrm>
            <a:off x="270000" y="792000"/>
            <a:ext cx="8505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135000" y="6535800"/>
            <a:ext cx="58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Arial"/>
              </a:rPr>
              <a:t>© Pallab Dasgupta, Dept. of Computer Sc &amp; Engg, IIT Kharagpu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176040" cy="6858000"/>
          </a:xfrm>
          <a:prstGeom prst="rect">
            <a:avLst/>
          </a:prstGeom>
          <a:solidFill>
            <a:srgbClr val="50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5"/>
          <p:cNvSpPr/>
          <p:nvPr/>
        </p:nvSpPr>
        <p:spPr>
          <a:xfrm flipV="1">
            <a:off x="243000" y="6497640"/>
            <a:ext cx="89010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171360" y="0"/>
            <a:ext cx="187560" cy="771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8507520" y="0"/>
            <a:ext cx="637920" cy="77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00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2794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09480" y="914400"/>
            <a:ext cx="8153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243000" cy="6858000"/>
          </a:xfrm>
          <a:prstGeom prst="rect">
            <a:avLst/>
          </a:prstGeom>
          <a:solidFill>
            <a:srgbClr val="50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9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top_img"/>
          <p:cNvPicPr/>
          <p:nvPr/>
        </p:nvPicPr>
        <p:blipFill>
          <a:blip r:embed="rId1"/>
          <a:stretch/>
        </p:blipFill>
        <p:spPr>
          <a:xfrm>
            <a:off x="708120" y="4114800"/>
            <a:ext cx="3047760" cy="2230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965160" y="1041480"/>
            <a:ext cx="788976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 Narrow"/>
              </a:rPr>
              <a:t>Bounded Model Che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852720" y="3835440"/>
            <a:ext cx="5032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allab Dasgup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fessor, Dept. of Computer Science &amp; Engg.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fessor-in-charge, AVLSI Design Lab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an Institute of Technology Kharagp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54120" y="1779480"/>
            <a:ext cx="529596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iitlogo"/>
          <p:cNvPicPr/>
          <p:nvPr/>
        </p:nvPicPr>
        <p:blipFill>
          <a:blip r:embed="rId2"/>
          <a:stretch/>
        </p:blipFill>
        <p:spPr>
          <a:xfrm>
            <a:off x="3030480" y="4351320"/>
            <a:ext cx="712800" cy="768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977760" y="1955880"/>
            <a:ext cx="6251760" cy="97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Testing &amp;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 Narrow"/>
              </a:rPr>
              <a:t>Dept. of Computer Science &amp; Engg, IIT Kharagp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7039-1D76-4AFA-8229-083AB69CF610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Formal Methodolog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d on path length  k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uses describing the system M :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Initial state :   I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Unrolled transition relation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0..k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 clause    loo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=i..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f]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that temporal property f is true at  stat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property f to hold on the system  M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f]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ust be satisfiabl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6AB5-9132-43AE-B391-7E3F2DD1A0B7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ranslation of LTL to S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8280" y="1250640"/>
            <a:ext cx="849636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X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,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i &lt; k )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,k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F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,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=i..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,k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G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=i..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f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,k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o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f U g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=i..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[ g ]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,k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=i..j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f 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,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440E-C51F-4A45-98E3-95D7409614E8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宋体"/>
              </a:rPr>
              <a:t>Advantag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宋体"/>
              </a:rPr>
              <a:t>Able to handle larger state spaces  as compared to BDD’s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宋体"/>
              </a:rPr>
              <a:t>Takes advantage of several decades of research on efficient SAT solvers. 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宋体"/>
              </a:rPr>
              <a:t>The witness/counterexample produced are usually of minimum possible length, making them easier to understand and analyze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ADC-3445-45F6-950A-A64404A36A8F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Limitations of BMC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Sound but not complete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for a bounded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rder to have a complete procedure, we need to run it at least up to the diameter (unknown) of the transi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For larger depths the number of clauses can grow rapidly, thereby raising capacity issues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Nevertheless, SAT-based FPV tools can handle much larger designs as compared to BDD-based tools</a:t>
            </a:r>
            <a:endParaRPr b="1" lang="en-US" sz="18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61B6-4D11-44C6-A348-91847642D672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宋体"/>
              </a:rPr>
              <a:t>Bounded Model Checking (BMC)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0240" y="1034640"/>
            <a:ext cx="83739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  <a:ea typeface="宋体"/>
              </a:rPr>
              <a:t>Broad Methodology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252595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construct a Boolean formula that is satisfiable iff the underlying state transition system can realize a finite sequence of state transitions that satisfy the temporal property we are trying to vali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252595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 use powerful SAT solvers to determine the satisfiability of the Boolean formu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252595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bound may be increased incrementally until we reach the diameter of the state transition grap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F1EF-AB37-437F-BE64-2A0EC85FCE0F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Requireme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58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Specification in temporal logic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System as a finite state machine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Bound, k, on path length.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ounded model checking, only paths of bounded length k or less are conside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50A6-2020-41E7-B62F-921CADA4ADBE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BMC: Translation to S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0240" y="842760"/>
            <a:ext cx="837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We unfold the property into Boolean clauses over different time steps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We unfold the state machine into Boolean clauses over the same number of time steps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25259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We check whether the clauses are together satisfiable</a:t>
            </a:r>
            <a:endParaRPr b="1" lang="en-US" sz="2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331E-DF08-4BBD-B36B-8DB308FB2A83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xample: 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Priority Arbiter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138280" y="20718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35400" y="4446720"/>
            <a:ext cx="6895080" cy="17643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erty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n r1 is high, g1 must be asserted for the next two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Linear Temporal Logic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( r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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Xg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XXg1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3840" y="388296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"/>
          <p:cNvGrpSpPr/>
          <p:nvPr/>
        </p:nvGrpSpPr>
        <p:grpSpPr>
          <a:xfrm>
            <a:off x="1067400" y="1371600"/>
            <a:ext cx="3655440" cy="2286000"/>
            <a:chOff x="1067400" y="1371600"/>
            <a:chExt cx="3655440" cy="2286000"/>
          </a:xfrm>
        </p:grpSpPr>
        <p:sp>
          <p:nvSpPr>
            <p:cNvPr id="108" name="Rectangle 7"/>
            <p:cNvSpPr/>
            <p:nvPr/>
          </p:nvSpPr>
          <p:spPr>
            <a:xfrm>
              <a:off x="1752480" y="1371600"/>
              <a:ext cx="2210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1067400" y="1647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14479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0"/>
            <p:cNvGrpSpPr/>
            <p:nvPr/>
          </p:nvGrpSpPr>
          <p:grpSpPr>
            <a:xfrm>
              <a:off x="1067400" y="3108240"/>
              <a:ext cx="685080" cy="398880"/>
              <a:chOff x="1067400" y="3108240"/>
              <a:chExt cx="685080" cy="398880"/>
            </a:xfrm>
          </p:grpSpPr>
          <p:sp>
            <p:nvSpPr>
              <p:cNvPr id="112" name="Text Box 11"/>
              <p:cNvSpPr/>
              <p:nvPr/>
            </p:nvSpPr>
            <p:spPr>
              <a:xfrm>
                <a:off x="1067400" y="31082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1447920" y="3288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3"/>
            <p:cNvGrpSpPr/>
            <p:nvPr/>
          </p:nvGrpSpPr>
          <p:grpSpPr>
            <a:xfrm>
              <a:off x="3962520" y="1660680"/>
              <a:ext cx="760320" cy="398880"/>
              <a:chOff x="3962520" y="1660680"/>
              <a:chExt cx="760320" cy="398880"/>
            </a:xfrm>
          </p:grpSpPr>
          <p:sp>
            <p:nvSpPr>
              <p:cNvPr id="115" name="Text Box 14"/>
              <p:cNvSpPr/>
              <p:nvPr/>
            </p:nvSpPr>
            <p:spPr>
              <a:xfrm>
                <a:off x="4258800" y="16606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5"/>
              <p:cNvSpPr/>
              <p:nvPr/>
            </p:nvSpPr>
            <p:spPr>
              <a:xfrm>
                <a:off x="396252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6"/>
            <p:cNvGrpSpPr/>
            <p:nvPr/>
          </p:nvGrpSpPr>
          <p:grpSpPr>
            <a:xfrm>
              <a:off x="3962520" y="2666880"/>
              <a:ext cx="760320" cy="398880"/>
              <a:chOff x="3962520" y="2666880"/>
              <a:chExt cx="760320" cy="398880"/>
            </a:xfrm>
          </p:grpSpPr>
          <p:sp>
            <p:nvSpPr>
              <p:cNvPr id="118" name="Text Box 17"/>
              <p:cNvSpPr/>
              <p:nvPr/>
            </p:nvSpPr>
            <p:spPr>
              <a:xfrm>
                <a:off x="4258800" y="26668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8"/>
              <p:cNvSpPr/>
              <p:nvPr/>
            </p:nvSpPr>
            <p:spPr>
              <a:xfrm>
                <a:off x="3962520" y="2911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19"/>
            <p:cNvSpPr/>
            <p:nvPr/>
          </p:nvSpPr>
          <p:spPr>
            <a:xfrm>
              <a:off x="2666880" y="1523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/>
            <p:cNvSpPr/>
            <p:nvPr/>
          </p:nvSpPr>
          <p:spPr>
            <a:xfrm>
              <a:off x="2819520" y="2514600"/>
              <a:ext cx="380880" cy="838080"/>
            </a:xfrm>
            <a:prstGeom prst="flowChartDelay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3352680" y="2666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2514600" y="297180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"/>
            <p:cNvSpPr/>
            <p:nvPr/>
          </p:nvSpPr>
          <p:spPr>
            <a:xfrm rot="16200000">
              <a:off x="2247840" y="293328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17524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1905120" y="1828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19051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2666880" y="3048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 flipH="1">
              <a:off x="1752480" y="32767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9"/>
            <p:cNvSpPr/>
            <p:nvPr/>
          </p:nvSpPr>
          <p:spPr>
            <a:xfrm>
              <a:off x="3200400" y="2895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0"/>
            <p:cNvSpPr/>
            <p:nvPr/>
          </p:nvSpPr>
          <p:spPr>
            <a:xfrm>
              <a:off x="304812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373392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>
              <a:off x="2514600" y="259092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 rot="16200000">
              <a:off x="2247840" y="255240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2666880" y="2666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3352680" y="1828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 flipH="1">
              <a:off x="1981080" y="2133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>
              <a:off x="1981080" y="2133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38"/>
            <p:cNvSpPr/>
            <p:nvPr/>
          </p:nvSpPr>
          <p:spPr>
            <a:xfrm>
              <a:off x="198108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9"/>
          <p:cNvSpPr/>
          <p:nvPr/>
        </p:nvSpPr>
        <p:spPr>
          <a:xfrm>
            <a:off x="5178600" y="30211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state: g1=0, g2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3E4-F228-4185-9E56-481120F29FDD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xample: 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Priority Arbiter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226480" y="1430280"/>
            <a:ext cx="279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ransition 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480" y="4444920"/>
            <a:ext cx="7209360" cy="171468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erty: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( r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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Xg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XXg1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gate property: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( r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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Xg1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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XXg1)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Unfold transition relation one step at a time and check whether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witness for the negated property ex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00920" y="38829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1067400" y="1371600"/>
            <a:ext cx="3655440" cy="2286000"/>
            <a:chOff x="1067400" y="1371600"/>
            <a:chExt cx="3655440" cy="2286000"/>
          </a:xfrm>
        </p:grpSpPr>
        <p:sp>
          <p:nvSpPr>
            <p:cNvPr id="147" name="Rectangle 7"/>
            <p:cNvSpPr/>
            <p:nvPr/>
          </p:nvSpPr>
          <p:spPr>
            <a:xfrm>
              <a:off x="1752480" y="1371600"/>
              <a:ext cx="2210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067400" y="1647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14479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0"/>
            <p:cNvGrpSpPr/>
            <p:nvPr/>
          </p:nvGrpSpPr>
          <p:grpSpPr>
            <a:xfrm>
              <a:off x="1067400" y="3108240"/>
              <a:ext cx="685080" cy="398880"/>
              <a:chOff x="1067400" y="3108240"/>
              <a:chExt cx="685080" cy="398880"/>
            </a:xfrm>
          </p:grpSpPr>
          <p:sp>
            <p:nvSpPr>
              <p:cNvPr id="151" name="Text Box 11"/>
              <p:cNvSpPr/>
              <p:nvPr/>
            </p:nvSpPr>
            <p:spPr>
              <a:xfrm>
                <a:off x="1067400" y="31082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"/>
              <p:cNvSpPr/>
              <p:nvPr/>
            </p:nvSpPr>
            <p:spPr>
              <a:xfrm>
                <a:off x="1447920" y="3288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3"/>
            <p:cNvGrpSpPr/>
            <p:nvPr/>
          </p:nvGrpSpPr>
          <p:grpSpPr>
            <a:xfrm>
              <a:off x="3962520" y="1660680"/>
              <a:ext cx="760320" cy="398880"/>
              <a:chOff x="3962520" y="1660680"/>
              <a:chExt cx="760320" cy="398880"/>
            </a:xfrm>
          </p:grpSpPr>
          <p:sp>
            <p:nvSpPr>
              <p:cNvPr id="154" name="Text Box 14"/>
              <p:cNvSpPr/>
              <p:nvPr/>
            </p:nvSpPr>
            <p:spPr>
              <a:xfrm>
                <a:off x="4258800" y="16606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396252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16"/>
            <p:cNvGrpSpPr/>
            <p:nvPr/>
          </p:nvGrpSpPr>
          <p:grpSpPr>
            <a:xfrm>
              <a:off x="3962520" y="2666880"/>
              <a:ext cx="760320" cy="398880"/>
              <a:chOff x="3962520" y="2666880"/>
              <a:chExt cx="760320" cy="398880"/>
            </a:xfrm>
          </p:grpSpPr>
          <p:sp>
            <p:nvSpPr>
              <p:cNvPr id="157" name="Text Box 17"/>
              <p:cNvSpPr/>
              <p:nvPr/>
            </p:nvSpPr>
            <p:spPr>
              <a:xfrm>
                <a:off x="4258800" y="26668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3962520" y="2911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9"/>
            <p:cNvSpPr/>
            <p:nvPr/>
          </p:nvSpPr>
          <p:spPr>
            <a:xfrm>
              <a:off x="2666880" y="1523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0"/>
            <p:cNvSpPr/>
            <p:nvPr/>
          </p:nvSpPr>
          <p:spPr>
            <a:xfrm>
              <a:off x="2819520" y="2514600"/>
              <a:ext cx="380880" cy="838080"/>
            </a:xfrm>
            <a:prstGeom prst="flowChartDelay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3352680" y="2666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2514600" y="297180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3"/>
            <p:cNvSpPr/>
            <p:nvPr/>
          </p:nvSpPr>
          <p:spPr>
            <a:xfrm rot="16200000">
              <a:off x="2247840" y="293328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17524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>
              <a:off x="1905120" y="1828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>
              <a:off x="19051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7"/>
            <p:cNvSpPr/>
            <p:nvPr/>
          </p:nvSpPr>
          <p:spPr>
            <a:xfrm>
              <a:off x="2666880" y="3048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8"/>
            <p:cNvSpPr/>
            <p:nvPr/>
          </p:nvSpPr>
          <p:spPr>
            <a:xfrm flipH="1">
              <a:off x="1752480" y="32767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9"/>
            <p:cNvSpPr/>
            <p:nvPr/>
          </p:nvSpPr>
          <p:spPr>
            <a:xfrm>
              <a:off x="3200400" y="2895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0"/>
            <p:cNvSpPr/>
            <p:nvPr/>
          </p:nvSpPr>
          <p:spPr>
            <a:xfrm>
              <a:off x="304812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373392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2"/>
            <p:cNvSpPr/>
            <p:nvPr/>
          </p:nvSpPr>
          <p:spPr>
            <a:xfrm>
              <a:off x="2514600" y="259092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3"/>
            <p:cNvSpPr/>
            <p:nvPr/>
          </p:nvSpPr>
          <p:spPr>
            <a:xfrm rot="16200000">
              <a:off x="2247840" y="255240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>
              <a:off x="2666880" y="2666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3352680" y="1828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6"/>
            <p:cNvSpPr/>
            <p:nvPr/>
          </p:nvSpPr>
          <p:spPr>
            <a:xfrm flipH="1">
              <a:off x="1981080" y="2133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981080" y="2133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198108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9"/>
          <p:cNvSpPr/>
          <p:nvPr/>
        </p:nvSpPr>
        <p:spPr>
          <a:xfrm>
            <a:off x="5178600" y="30211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state: g1=0, g2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2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A69-A1D3-47E7-B85B-4B00FF9C099B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Variables in Temporal World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676520" y="1447920"/>
            <a:ext cx="914400" cy="1143000"/>
          </a:xfrm>
          <a:prstGeom prst="rect">
            <a:avLst/>
          </a:prstGeom>
          <a:solidFill>
            <a:srgbClr val="e3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1295280" y="17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1295280" y="2147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16560" y="15746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916560" y="19954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259092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25909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973240" y="1523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973240" y="1944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801240" y="1981080"/>
            <a:ext cx="4425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r1 is true in a cycle then g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s to b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ue for the next two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1112040" y="2887560"/>
            <a:ext cx="6553440" cy="2468520"/>
            <a:chOff x="1112040" y="2887560"/>
            <a:chExt cx="6553440" cy="2468520"/>
          </a:xfrm>
        </p:grpSpPr>
        <p:sp>
          <p:nvSpPr>
            <p:cNvPr id="193" name="AutoShape 14"/>
            <p:cNvSpPr/>
            <p:nvPr/>
          </p:nvSpPr>
          <p:spPr>
            <a:xfrm>
              <a:off x="1219320" y="3254400"/>
              <a:ext cx="685800" cy="129528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40786">
                  <a:moveTo>
                    <a:pt x="3600" y="0"/>
                  </a:moveTo>
                  <a:arcTo wR="3600" hR="3600" stAng="16200000" swAng="-5400000"/>
                  <a:lnTo>
                    <a:pt x="0" y="37186"/>
                  </a:lnTo>
                  <a:arcTo wR="3600" hR="3600" stAng="10800000" swAng="-5400000"/>
                  <a:lnTo>
                    <a:pt x="18000" y="40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ffe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2514600" y="3254400"/>
              <a:ext cx="685800" cy="129528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40786">
                  <a:moveTo>
                    <a:pt x="3600" y="0"/>
                  </a:moveTo>
                  <a:arcTo wR="3600" hR="3600" stAng="16200000" swAng="-5400000"/>
                  <a:lnTo>
                    <a:pt x="0" y="37186"/>
                  </a:lnTo>
                  <a:arcTo wR="3600" hR="3600" stAng="10800000" swAng="-5400000"/>
                  <a:lnTo>
                    <a:pt x="18000" y="40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ffe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886200" y="3254400"/>
              <a:ext cx="685800" cy="129528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40786">
                  <a:moveTo>
                    <a:pt x="3600" y="0"/>
                  </a:moveTo>
                  <a:arcTo wR="3600" hR="3600" stAng="16200000" swAng="-5400000"/>
                  <a:lnTo>
                    <a:pt x="0" y="37186"/>
                  </a:lnTo>
                  <a:arcTo wR="3600" hR="3600" stAng="10800000" swAng="-5400000"/>
                  <a:lnTo>
                    <a:pt x="18000" y="40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effe3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1981080" y="363528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3276720" y="36352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4648320" y="36352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1126080" y="45864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: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421360" y="4564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: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3792960" y="4564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: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112040" y="28875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emporal world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5202720" y="4495680"/>
              <a:ext cx="246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 [ r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g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t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g1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t+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]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1127160" y="4989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2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DD2E-B724-4495-B291-DCEDC37086D8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xample: 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Bound=2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921920" y="1506600"/>
            <a:ext cx="384012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Transition 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r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1067400" y="1371600"/>
            <a:ext cx="3655440" cy="2286000"/>
            <a:chOff x="1067400" y="1371600"/>
            <a:chExt cx="3655440" cy="2286000"/>
          </a:xfrm>
        </p:grpSpPr>
        <p:sp>
          <p:nvSpPr>
            <p:cNvPr id="209" name="Rectangle 7"/>
            <p:cNvSpPr/>
            <p:nvPr/>
          </p:nvSpPr>
          <p:spPr>
            <a:xfrm>
              <a:off x="1752480" y="1371600"/>
              <a:ext cx="2210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1067400" y="1647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14479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067400" y="3108240"/>
              <a:ext cx="685080" cy="398880"/>
              <a:chOff x="1067400" y="3108240"/>
              <a:chExt cx="685080" cy="398880"/>
            </a:xfrm>
          </p:grpSpPr>
          <p:sp>
            <p:nvSpPr>
              <p:cNvPr id="213" name="Text Box 11"/>
              <p:cNvSpPr/>
              <p:nvPr/>
            </p:nvSpPr>
            <p:spPr>
              <a:xfrm>
                <a:off x="1067400" y="31082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2"/>
              <p:cNvSpPr/>
              <p:nvPr/>
            </p:nvSpPr>
            <p:spPr>
              <a:xfrm>
                <a:off x="1447920" y="3288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3"/>
            <p:cNvGrpSpPr/>
            <p:nvPr/>
          </p:nvGrpSpPr>
          <p:grpSpPr>
            <a:xfrm>
              <a:off x="3962520" y="1660680"/>
              <a:ext cx="760320" cy="398880"/>
              <a:chOff x="3962520" y="1660680"/>
              <a:chExt cx="760320" cy="398880"/>
            </a:xfrm>
          </p:grpSpPr>
          <p:sp>
            <p:nvSpPr>
              <p:cNvPr id="216" name="Text Box 14"/>
              <p:cNvSpPr/>
              <p:nvPr/>
            </p:nvSpPr>
            <p:spPr>
              <a:xfrm>
                <a:off x="4258800" y="16606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5"/>
              <p:cNvSpPr/>
              <p:nvPr/>
            </p:nvSpPr>
            <p:spPr>
              <a:xfrm>
                <a:off x="396252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3962520" y="2666880"/>
              <a:ext cx="760320" cy="398880"/>
              <a:chOff x="3962520" y="2666880"/>
              <a:chExt cx="760320" cy="398880"/>
            </a:xfrm>
          </p:grpSpPr>
          <p:sp>
            <p:nvSpPr>
              <p:cNvPr id="219" name="Text Box 17"/>
              <p:cNvSpPr/>
              <p:nvPr/>
            </p:nvSpPr>
            <p:spPr>
              <a:xfrm>
                <a:off x="4258800" y="26668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8"/>
              <p:cNvSpPr/>
              <p:nvPr/>
            </p:nvSpPr>
            <p:spPr>
              <a:xfrm>
                <a:off x="3962520" y="2911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19"/>
            <p:cNvSpPr/>
            <p:nvPr/>
          </p:nvSpPr>
          <p:spPr>
            <a:xfrm>
              <a:off x="2666880" y="1523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0"/>
            <p:cNvSpPr/>
            <p:nvPr/>
          </p:nvSpPr>
          <p:spPr>
            <a:xfrm>
              <a:off x="2819520" y="2514600"/>
              <a:ext cx="380880" cy="838080"/>
            </a:xfrm>
            <a:prstGeom prst="flowChartDelay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>
              <a:off x="3352680" y="2666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2514600" y="297180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23"/>
            <p:cNvSpPr/>
            <p:nvPr/>
          </p:nvSpPr>
          <p:spPr>
            <a:xfrm rot="16200000">
              <a:off x="2247840" y="293328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17524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>
              <a:off x="1905120" y="1828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6"/>
            <p:cNvSpPr/>
            <p:nvPr/>
          </p:nvSpPr>
          <p:spPr>
            <a:xfrm>
              <a:off x="19051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7"/>
            <p:cNvSpPr/>
            <p:nvPr/>
          </p:nvSpPr>
          <p:spPr>
            <a:xfrm>
              <a:off x="2666880" y="3048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 flipH="1">
              <a:off x="1752480" y="32767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3200400" y="2895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304812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373392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2"/>
            <p:cNvSpPr/>
            <p:nvPr/>
          </p:nvSpPr>
          <p:spPr>
            <a:xfrm>
              <a:off x="2514600" y="259092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33"/>
            <p:cNvSpPr/>
            <p:nvPr/>
          </p:nvSpPr>
          <p:spPr>
            <a:xfrm rot="16200000">
              <a:off x="2247840" y="255240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2666880" y="2666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3352680" y="1828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 flipH="1">
              <a:off x="1981080" y="2133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1981080" y="2133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198108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9"/>
          <p:cNvSpPr/>
          <p:nvPr/>
        </p:nvSpPr>
        <p:spPr>
          <a:xfrm>
            <a:off x="4947840" y="2697120"/>
            <a:ext cx="305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Initial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:   g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5025960" y="9507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a witness of length=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691560" y="3941640"/>
            <a:ext cx="5367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Proper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( r1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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Xg1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XXg1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705960" y="5089680"/>
            <a:ext cx="47253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AT Che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s Z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satisfi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No, since 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flicts with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2"/>
          <p:cNvSpPr/>
          <p:nvPr/>
        </p:nvSpPr>
        <p:spPr>
          <a:xfrm>
            <a:off x="7483320" y="6543720"/>
            <a:ext cx="1600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C50-70AE-4B3F-ABF8-9FB9CDAD1F6C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6760" y="88920"/>
            <a:ext cx="8325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Example: 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Bound=3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921920" y="1506600"/>
            <a:ext cx="38401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Transition 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from previous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r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067400" y="1371600"/>
            <a:ext cx="3655440" cy="2286000"/>
            <a:chOff x="1067400" y="1371600"/>
            <a:chExt cx="3655440" cy="2286000"/>
          </a:xfrm>
        </p:grpSpPr>
        <p:sp>
          <p:nvSpPr>
            <p:cNvPr id="249" name="Rectangle 5"/>
            <p:cNvSpPr/>
            <p:nvPr/>
          </p:nvSpPr>
          <p:spPr>
            <a:xfrm>
              <a:off x="1752480" y="1371600"/>
              <a:ext cx="2210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1067400" y="164772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>
              <a:off x="14479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"/>
            <p:cNvGrpSpPr/>
            <p:nvPr/>
          </p:nvGrpSpPr>
          <p:grpSpPr>
            <a:xfrm>
              <a:off x="1067400" y="3108240"/>
              <a:ext cx="685080" cy="398880"/>
              <a:chOff x="1067400" y="3108240"/>
              <a:chExt cx="685080" cy="398880"/>
            </a:xfrm>
          </p:grpSpPr>
          <p:sp>
            <p:nvSpPr>
              <p:cNvPr id="253" name="Text Box 9"/>
              <p:cNvSpPr/>
              <p:nvPr/>
            </p:nvSpPr>
            <p:spPr>
              <a:xfrm>
                <a:off x="1067400" y="310824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1447920" y="3288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1"/>
            <p:cNvGrpSpPr/>
            <p:nvPr/>
          </p:nvGrpSpPr>
          <p:grpSpPr>
            <a:xfrm>
              <a:off x="3962520" y="1660680"/>
              <a:ext cx="760320" cy="398880"/>
              <a:chOff x="3962520" y="1660680"/>
              <a:chExt cx="760320" cy="39888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4258800" y="16606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3"/>
              <p:cNvSpPr/>
              <p:nvPr/>
            </p:nvSpPr>
            <p:spPr>
              <a:xfrm>
                <a:off x="3962520" y="18288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"/>
            <p:cNvGrpSpPr/>
            <p:nvPr/>
          </p:nvGrpSpPr>
          <p:grpSpPr>
            <a:xfrm>
              <a:off x="3962520" y="2666880"/>
              <a:ext cx="760320" cy="398880"/>
              <a:chOff x="3962520" y="2666880"/>
              <a:chExt cx="760320" cy="398880"/>
            </a:xfrm>
          </p:grpSpPr>
          <p:sp>
            <p:nvSpPr>
              <p:cNvPr id="259" name="Text Box 15"/>
              <p:cNvSpPr/>
              <p:nvPr/>
            </p:nvSpPr>
            <p:spPr>
              <a:xfrm>
                <a:off x="4258800" y="26668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6"/>
              <p:cNvSpPr/>
              <p:nvPr/>
            </p:nvSpPr>
            <p:spPr>
              <a:xfrm>
                <a:off x="3962520" y="2911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7"/>
            <p:cNvSpPr/>
            <p:nvPr/>
          </p:nvSpPr>
          <p:spPr>
            <a:xfrm>
              <a:off x="2666880" y="1523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8"/>
            <p:cNvSpPr/>
            <p:nvPr/>
          </p:nvSpPr>
          <p:spPr>
            <a:xfrm>
              <a:off x="2819520" y="2514600"/>
              <a:ext cx="380880" cy="838080"/>
            </a:xfrm>
            <a:prstGeom prst="flowChartDelay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9"/>
            <p:cNvSpPr/>
            <p:nvPr/>
          </p:nvSpPr>
          <p:spPr>
            <a:xfrm>
              <a:off x="3352680" y="2666880"/>
              <a:ext cx="381240" cy="533520"/>
            </a:xfrm>
            <a:prstGeom prst="rect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2514600" y="297180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1"/>
            <p:cNvSpPr/>
            <p:nvPr/>
          </p:nvSpPr>
          <p:spPr>
            <a:xfrm rot="16200000">
              <a:off x="2247840" y="293328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17524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1905120" y="18288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19051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2666880" y="3048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6"/>
            <p:cNvSpPr/>
            <p:nvPr/>
          </p:nvSpPr>
          <p:spPr>
            <a:xfrm flipH="1">
              <a:off x="1752480" y="32767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7"/>
            <p:cNvSpPr/>
            <p:nvPr/>
          </p:nvSpPr>
          <p:spPr>
            <a:xfrm>
              <a:off x="3200400" y="2895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>
              <a:off x="304812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373392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0"/>
            <p:cNvSpPr/>
            <p:nvPr/>
          </p:nvSpPr>
          <p:spPr>
            <a:xfrm>
              <a:off x="2514600" y="2590920"/>
              <a:ext cx="152280" cy="152280"/>
            </a:xfrm>
            <a:prstGeom prst="ellips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31"/>
            <p:cNvSpPr/>
            <p:nvPr/>
          </p:nvSpPr>
          <p:spPr>
            <a:xfrm rot="16200000">
              <a:off x="2247840" y="2552400"/>
              <a:ext cx="304920" cy="228600"/>
            </a:xfrm>
            <a:prstGeom prst="flowChartMerge">
              <a:avLst/>
            </a:prstGeom>
            <a:solidFill>
              <a:srgbClr val="e3e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>
              <a:off x="2666880" y="26668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3352680" y="1828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 flipH="1">
              <a:off x="1981080" y="2133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>
              <a:off x="1981080" y="21337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>
              <a:off x="1981080" y="266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37"/>
          <p:cNvSpPr/>
          <p:nvPr/>
        </p:nvSpPr>
        <p:spPr>
          <a:xfrm>
            <a:off x="4897080" y="2900520"/>
            <a:ext cx="305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Initial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:   g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5025960" y="9507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a witness of length=3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691560" y="3941640"/>
            <a:ext cx="5367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lauses from Proper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( r1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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Xg1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XXg1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(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660960" y="5089680"/>
            <a:ext cx="75553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AT Che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s Z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C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atisfi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Witness: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, r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, g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, rest are don’t ca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: We have found a bug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04T18:22:28Z</dcterms:created>
  <dc:creator>Manu Chopra</dc:creator>
  <dc:description/>
  <cp:keywords/>
  <dc:language>en-US</dc:language>
  <cp:lastModifiedBy>Antonio Bruto da Costa</cp:lastModifiedBy>
  <cp:lastPrinted>2000-02-24T01:50:10Z</cp:lastPrinted>
  <dcterms:modified xsi:type="dcterms:W3CDTF">2018-02-28T04:25:06Z</dcterms:modified>
  <cp:revision>823</cp:revision>
  <dc:subject/>
  <dc:title>Formal Verification in Industrial Setting</dc:title>
</cp:coreProperties>
</file>